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0.gif" ContentType="image/gif"/>
  <Override PartName="/ppt/media/image12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5.gif" ContentType="image/gif"/>
  <Override PartName="/ppt/media/image20.png" ContentType="image/png"/>
  <Override PartName="/ppt/media/image5.jpeg" ContentType="image/jpeg"/>
  <Override PartName="/ppt/media/image8.png" ContentType="image/png"/>
  <Override PartName="/ppt/media/image14.jpeg" ContentType="image/jpeg"/>
  <Override PartName="/ppt/media/image19.jpeg" ContentType="image/jpeg"/>
  <Override PartName="/ppt/media/image18.jpeg" ContentType="image/jpeg"/>
  <Override PartName="/ppt/media/image21.jpeg" ContentType="image/jpeg"/>
  <Override PartName="/ppt/media/image17.gif" ContentType="image/gif"/>
  <Override PartName="/ppt/media/image2.jpeg" ContentType="image/jpeg"/>
  <Override PartName="/ppt/media/image3.png" ContentType="image/png"/>
  <Override PartName="/ppt/media/image1.png" ContentType="image/png"/>
  <Override PartName="/ppt/media/image22.jpeg" ContentType="image/jpeg"/>
  <Override PartName="/ppt/media/image4.gif" ContentType="image/gif"/>
  <Override PartName="/ppt/media/image6.jpeg" ContentType="image/jpeg"/>
  <Override PartName="/ppt/media/image16.jpeg" ContentType="image/jpeg"/>
  <Override PartName="/ppt/media/chimes.wav" ContentType="audio/x-wav"/>
  <Override PartName="/ppt/media/image13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  <p:sldId id="291" r:id="rId44"/>
    <p:sldId id="292" r:id="rId45"/>
    <p:sldId id="293" r:id="rId46"/>
    <p:sldId id="294" r:id="rId47"/>
    <p:sldId id="295" r:id="rId48"/>
    <p:sldId id="296" r:id="rId49"/>
    <p:sldId id="297" r:id="rId50"/>
    <p:sldId id="298" r:id="rId51"/>
    <p:sldId id="299" r:id="rId52"/>
    <p:sldId id="300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slide" Target="slides/slide36.xml"/><Relationship Id="rId45" Type="http://schemas.openxmlformats.org/officeDocument/2006/relationships/slide" Target="slides/slide37.xml"/><Relationship Id="rId46" Type="http://schemas.openxmlformats.org/officeDocument/2006/relationships/slide" Target="slides/slide38.xml"/><Relationship Id="rId47" Type="http://schemas.openxmlformats.org/officeDocument/2006/relationships/slide" Target="slides/slide39.xml"/><Relationship Id="rId48" Type="http://schemas.openxmlformats.org/officeDocument/2006/relationships/slide" Target="slides/slide40.xml"/><Relationship Id="rId49" Type="http://schemas.openxmlformats.org/officeDocument/2006/relationships/slide" Target="slides/slide41.xml"/><Relationship Id="rId50" Type="http://schemas.openxmlformats.org/officeDocument/2006/relationships/slide" Target="slides/slide42.xml"/><Relationship Id="rId51" Type="http://schemas.openxmlformats.org/officeDocument/2006/relationships/slide" Target="slides/slide43.xml"/><Relationship Id="rId52" Type="http://schemas.openxmlformats.org/officeDocument/2006/relationships/slide" Target="slides/slide44.xml"/><Relationship Id="rId53" Type="http://schemas.openxmlformats.org/officeDocument/2006/relationships/slide" Target="slides/slide45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D22B1-E832-40B8-8566-F8A037E08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7693C-F952-4760-9C46-C1425D882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83A49-47A1-499C-9271-C13FBCD4B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0F004-A29C-49D5-8C23-F1FCB9AEE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283D2-5C68-4428-B273-D76C61EDF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89886-148E-4375-BCCF-C0ADB6A62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E3015-2781-4C8C-BF27-0318852C5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CD670-95C5-4DB8-8DEA-6A92BAF96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DEE8A-D063-47A2-A5A1-2B2FD55B6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4146B-45E9-40E7-80AF-1CFAFD6CA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500B3-E5A9-46BB-B148-29E3272B4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FADFF-B145-4A4B-A6C5-5BBB57CCF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1D2C9-E2EB-42F0-B2E0-3618E84A5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0898D-E4A2-418F-86B6-13BB01AE9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FD9D5-51C4-4E34-89BF-AEDD9F924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2C3D6-EB9D-406D-8271-4CB560500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F65CC-2EAD-4FC9-A486-CE1EE0377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A0F3A2-2955-476C-9115-E100C3987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D58201-76F6-4055-9833-C9BA08E42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17BB41-98A1-4500-AD25-D1D414157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52D077-EAB6-407A-9EC3-55ED03D5A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DAA72A-3074-4D17-B439-7621ADFC8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315A6-99A6-4BFA-9880-9CBE7E5D8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BFECC3-DC51-4E47-A399-F93A68BC1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606109-E6EB-42BA-891F-09D5D8C50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9D0F9C-AD38-4D29-A936-C2CD5F606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5507B7-FB6B-48A6-B8B4-B123399A4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F3BC5B-71FE-4009-A4D6-25B607E68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665052-4701-4CA5-BA67-7CB93C306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3FF1A6-4E0E-4EDD-936A-7352F23BE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D7F12A-0CD8-4E2F-893A-C59D0252D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E4B4C2-9DA9-45E6-A181-07D4974E7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11EEB6-95B4-4A4D-A39C-F491709D0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11A09-6573-40B9-90D8-F5DB27FB0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41172A-C60E-4ACA-AC6A-0511C141F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A5DECF-0FBB-4F2C-8BC6-F1572EFA6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B27759-F208-4393-B2A8-D2007A24C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C2BBC2-C2C6-414E-9FC1-0DEBC54B4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DD60B7-CB84-49B8-9262-4D82EA8C5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C04B67-7525-44CB-B84F-44C6A5F79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44498F-4A92-4EE1-BB4F-639A9D490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F48EE6-4F37-4727-B176-BB967823B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C49D5E-56F8-46C4-B298-B4A1A2772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D5DFDB-9D2A-430A-BB94-9DB83D8C5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37373-90F7-4AA6-85D0-1B05C3048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3326D5-29CA-4A27-A3DD-5EE13A953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B36ABF-0B87-490E-A7DC-6A4F2A04B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D0B3B9-9E7C-4C11-AE26-745A7BE53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0862D5-6EA3-4953-B4F4-5D8B065B9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F3BE9D-06DF-4F8C-AC34-16B2C4E99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0F0A28-9B45-461D-B32F-2478125BC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024ABE-C207-4D90-BF19-2F85871D2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57BE6C-1B62-43C7-B209-C8BCF9902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D63224-EA7B-4232-9557-80A5CA1F1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C18475-E568-4DEC-A5CD-4726D5F32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066EA-A05E-4BF2-B4C1-F528DE645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205034-72EE-4CFA-BD54-D378B102A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FC907A-579C-4521-A6E7-03478BAC2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5502DA-F3D0-49EB-B32C-66FA70DAD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915C8B-E766-4049-8F4C-98A48224C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F47F7A-1029-452D-A20E-BEECCEAA0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7689F6-E587-4829-8CFC-428A7BE3D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7C8336-4D01-4CE1-8C7F-0A6134F8E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589904-AD6C-4814-AD53-F0F2E40A4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83C633-732D-4130-9F01-C4C612EDC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01C972-4438-4619-98AF-9CCE4F3FE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6599E-CEF9-4694-917D-2EB2EC4E3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EC96B1-EBE4-4919-9DBC-BEFB3EF44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B29283-09EE-4209-8D32-D738D01C3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8848FB-B2F7-4212-B6ED-AB5AA3B87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9383AB-7754-4431-B843-5061A7B57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1CF317-71FF-4EB9-B46C-15EA31F70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7C2444-988E-4149-8C3F-5FC06BC10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2B55B1-4A13-41E2-B33C-CED3CD2B3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7DD70A-0722-459E-BA4B-AB9B52037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BBF894-1244-4090-A7E2-69FA3057E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00CB67-57E1-4D4A-821A-52503FCD9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769D9-DB5D-4110-91F6-D1CC2ABD7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0C5376-0FBF-404A-B890-39B1957EA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83A083-FA51-432D-8969-AF7CCC213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148F85-41F9-4787-9494-AF3980A35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1FEDF0-5C24-4646-A23A-575DB9A46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FECBE9-3A02-4423-BDD8-3C790E676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1E19D-6365-4A45-AED9-834B916E2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EAC02-7DDC-4517-BBC8-33FB70CBA0D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0CC7B-B146-468C-9EB1-159E5C2F2277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50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60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4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7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68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76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77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80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81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2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83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91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C534B-581B-4E3D-98F1-98386B9FC167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34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7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38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3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44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7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48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3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DBA40-8734-4D26-8D71-0241FD1A810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12B24-8317-4C08-BF04-D65D0E3C125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274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dt" idx="16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ftr" idx="17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 type="sldNum" idx="18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6DF0C-26EE-4BF2-9964-3C408EEEF1E8}" type="slidenum">
              <a:rPr b="0" lang="zh-CN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7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378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379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9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1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779400" y="109440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8BC74-6413-4DC7-91F7-627E3A826387}" type="slidenum">
              <a:rPr b="0" lang="zh-CN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4.gif"/><Relationship Id="rId5" Type="http://schemas.openxmlformats.org/officeDocument/2006/relationships/hyperlink" Target="http://zhyz.gdzh.gov.cn/resource/picture/gifdh/dwl/fdl/z.htm" TargetMode="External"/><Relationship Id="rId6" Type="http://schemas.openxmlformats.org/officeDocument/2006/relationships/image" Target="../media/image10.gif"/><Relationship Id="rId7" Type="http://schemas.openxmlformats.org/officeDocument/2006/relationships/image" Target="../media/image4.gif"/><Relationship Id="rId8" Type="http://schemas.openxmlformats.org/officeDocument/2006/relationships/hyperlink" Target="http://zhyz.gdzh.gov.cn/resource/picture/gifdh/dwl/fdl/z.htm" TargetMode="External"/><Relationship Id="rId9" Type="http://schemas.openxmlformats.org/officeDocument/2006/relationships/image" Target="../media/image10.gif"/><Relationship Id="rId10" Type="http://schemas.openxmlformats.org/officeDocument/2006/relationships/hyperlink" Target="http://zhyz.gdzh.gov.cn/resource/picture/gifdh/dwl/fdl/z.htm" TargetMode="External"/><Relationship Id="rId11" Type="http://schemas.openxmlformats.org/officeDocument/2006/relationships/image" Target="../media/image10.gif"/><Relationship Id="rId12" Type="http://schemas.openxmlformats.org/officeDocument/2006/relationships/image" Target="../media/image10.gif"/><Relationship Id="rId13" Type="http://schemas.openxmlformats.org/officeDocument/2006/relationships/image" Target="../media/image4.gif"/><Relationship Id="rId14" Type="http://schemas.openxmlformats.org/officeDocument/2006/relationships/slideLayout" Target="../slideLayouts/slideLayout3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4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4.gif"/><Relationship Id="rId5" Type="http://schemas.openxmlformats.org/officeDocument/2006/relationships/image" Target="../media/image4.gif"/><Relationship Id="rId6" Type="http://schemas.openxmlformats.org/officeDocument/2006/relationships/image" Target="../media/image4.gif"/><Relationship Id="rId7" Type="http://schemas.openxmlformats.org/officeDocument/2006/relationships/image" Target="../media/image4.gif"/><Relationship Id="rId8" Type="http://schemas.openxmlformats.org/officeDocument/2006/relationships/image" Target="../media/image10.gif"/><Relationship Id="rId9" Type="http://schemas.openxmlformats.org/officeDocument/2006/relationships/image" Target="../media/image10.gif"/><Relationship Id="rId10" Type="http://schemas.openxmlformats.org/officeDocument/2006/relationships/image" Target="../media/image10.gif"/><Relationship Id="rId11" Type="http://schemas.openxmlformats.org/officeDocument/2006/relationships/image" Target="../media/image10.gif"/><Relationship Id="rId12" Type="http://schemas.openxmlformats.org/officeDocument/2006/relationships/image" Target="../media/image10.gif"/><Relationship Id="rId13" Type="http://schemas.openxmlformats.org/officeDocument/2006/relationships/slideLayout" Target="../slideLayouts/slideLayout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4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3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3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9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7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4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4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7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4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3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-360" y="2565360"/>
            <a:ext cx="1258920" cy="12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2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200" spc="-1" strike="noStrike">
                <a:solidFill>
                  <a:srgbClr val="000000"/>
                </a:solidFill>
                <a:latin typeface="Arial Black"/>
                <a:ea typeface="楷体_GB2312"/>
              </a:rPr>
              <a:t>春</a:t>
            </a:r>
            <a:endParaRPr b="0" lang="en-US" sz="9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2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1258920" y="620640"/>
            <a:ext cx="358920" cy="5688000"/>
          </a:xfrm>
          <a:custGeom>
            <a:avLst/>
            <a:gdLst>
              <a:gd name="textAreaLeft" fmla="*/ 229320 w 358920"/>
              <a:gd name="textAreaRight" fmla="*/ 359280 w 358920"/>
              <a:gd name="textAreaTop" fmla="*/ 148320 h 5688000"/>
              <a:gd name="textAreaBottom" fmla="*/ 5539680 h 568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2535120" y="50760"/>
            <a:ext cx="210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1476360" y="0"/>
            <a:ext cx="1368360" cy="62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盼春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绘春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颂春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2124000" y="1052640"/>
            <a:ext cx="0" cy="2087280"/>
          </a:xfrm>
          <a:prstGeom prst="line">
            <a:avLst/>
          </a:prstGeom>
          <a:ln w="63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2195640" y="3789360"/>
            <a:ext cx="0" cy="2087640"/>
          </a:xfrm>
          <a:prstGeom prst="line">
            <a:avLst/>
          </a:prstGeom>
          <a:ln w="63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6084720" y="333360"/>
            <a:ext cx="3529080" cy="62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6407280" y="380880"/>
            <a:ext cx="2736720" cy="62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5580000" y="1484280"/>
            <a:ext cx="172728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春草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春花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春风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春雨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迎春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35640" y="1628640"/>
            <a:ext cx="431640" cy="2737080"/>
          </a:xfrm>
          <a:custGeom>
            <a:avLst/>
            <a:gdLst>
              <a:gd name="textAreaLeft" fmla="*/ 275760 w 431640"/>
              <a:gd name="textAreaRight" fmla="*/ 432000 w 431640"/>
              <a:gd name="textAreaTop" fmla="*/ 71280 h 2737080"/>
              <a:gd name="textAreaBottom" fmla="*/ 2665800 h 2737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2411280" y="2276640"/>
            <a:ext cx="42498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楷体_GB2312"/>
              </a:rPr>
              <a:t>总体轮廓—局部描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山（朗润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水（涨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太阳（红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1403280" y="669960"/>
            <a:ext cx="2521080" cy="62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6012000" y="4797360"/>
            <a:ext cx="216036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娃娃—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姑娘—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青年—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2700360" y="333360"/>
            <a:ext cx="4824360" cy="11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Arial"/>
                <a:ea typeface="楷体_GB2312"/>
              </a:rPr>
              <a:t>盼……来……近…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（统领全篇，开启下文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5580000" y="5013360"/>
            <a:ext cx="287280" cy="1368360"/>
          </a:xfrm>
          <a:custGeom>
            <a:avLst/>
            <a:gdLst>
              <a:gd name="textAreaLeft" fmla="*/ 183600 w 287280"/>
              <a:gd name="textAreaRight" fmla="*/ 287640 w 287280"/>
              <a:gd name="textAreaTop" fmla="*/ 35640 h 1368360"/>
              <a:gd name="textAreaBottom" fmla="*/ 1332720 h 136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8"/>
                  <a:pt x="10800" y="1815"/>
                </a:cubicBezTo>
                <a:lnTo>
                  <a:pt x="10800" y="8985"/>
                </a:lnTo>
                <a:cubicBezTo>
                  <a:pt x="10800" y="9893"/>
                  <a:pt x="5400" y="10800"/>
                  <a:pt x="0" y="10800"/>
                </a:cubicBezTo>
                <a:cubicBezTo>
                  <a:pt x="5400" y="10800"/>
                  <a:pt x="10800" y="11708"/>
                  <a:pt x="10800" y="12615"/>
                </a:cubicBezTo>
                <a:lnTo>
                  <a:pt x="10800" y="19785"/>
                </a:lnTo>
                <a:cubicBezTo>
                  <a:pt x="10800" y="20693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/>
          </p:nvPr>
        </p:nvSpPr>
        <p:spPr>
          <a:xfrm>
            <a:off x="468360" y="1268280"/>
            <a:ext cx="82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第一部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思考：作者为什么要用拟人和反复的修辞方法？表现什么心情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请你也用这两种修辞方法造一个句子，表现一种强烈的感情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2166120" y="216000"/>
            <a:ext cx="436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二、具体分析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0" name="" descr=""/>
          <p:cNvPicPr/>
          <p:nvPr/>
        </p:nvPicPr>
        <p:blipFill>
          <a:blip r:embed="rId1"/>
          <a:stretch/>
        </p:blipFill>
        <p:spPr>
          <a:xfrm>
            <a:off x="6516720" y="0"/>
            <a:ext cx="2627280" cy="2027160"/>
          </a:xfrm>
          <a:prstGeom prst="rect">
            <a:avLst/>
          </a:prstGeom>
          <a:ln w="0">
            <a:noFill/>
          </a:ln>
        </p:spPr>
      </p:pic>
      <p:pic>
        <p:nvPicPr>
          <p:cNvPr id="531" name="" descr=""/>
          <p:cNvPicPr/>
          <p:nvPr/>
        </p:nvPicPr>
        <p:blipFill>
          <a:blip r:embed="rId2"/>
          <a:stretch/>
        </p:blipFill>
        <p:spPr>
          <a:xfrm>
            <a:off x="0" y="4437000"/>
            <a:ext cx="9144000" cy="242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2" name="" descr=""/>
          <p:cNvPicPr/>
          <p:nvPr/>
        </p:nvPicPr>
        <p:blipFill>
          <a:blip r:embed="rId1"/>
          <a:stretch/>
        </p:blipFill>
        <p:spPr>
          <a:xfrm>
            <a:off x="0" y="4437000"/>
            <a:ext cx="9144000" cy="2421000"/>
          </a:xfrm>
          <a:prstGeom prst="rect">
            <a:avLst/>
          </a:prstGeom>
          <a:ln w="0">
            <a:noFill/>
          </a:ln>
        </p:spPr>
      </p:pic>
      <p:sp>
        <p:nvSpPr>
          <p:cNvPr id="53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128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128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128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128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5864400" y="2641680"/>
            <a:ext cx="4562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468360" y="831960"/>
            <a:ext cx="829296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拟人的主要作用：在于使事物获得人的属性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便于抒发感情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使人感到亲切、易受感染。 拟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还可使抽象的事物具体化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使无生命的东西活跃起来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这就使语言富于形象性、生动性、感染力， 增加情趣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324000" y="3060720"/>
            <a:ext cx="84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反复的修辞手法主要运用在诗文中，起到反复咏叹，表达强烈的情感的作用。同时，反复的修辞手法还可以使诗文的格式整齐有序，而又回环起伏，充满语言美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0" name="" descr=""/>
          <p:cNvPicPr/>
          <p:nvPr/>
        </p:nvPicPr>
        <p:blipFill>
          <a:blip r:embed="rId1"/>
          <a:stretch/>
        </p:blipFill>
        <p:spPr>
          <a:xfrm>
            <a:off x="0" y="4437000"/>
            <a:ext cx="9144000" cy="2421000"/>
          </a:xfrm>
          <a:prstGeom prst="rect">
            <a:avLst/>
          </a:prstGeom>
          <a:ln w="0">
            <a:noFill/>
          </a:ln>
        </p:spPr>
      </p:pic>
      <p:sp>
        <p:nvSpPr>
          <p:cNvPr id="541" name=""/>
          <p:cNvSpPr/>
          <p:nvPr/>
        </p:nvSpPr>
        <p:spPr>
          <a:xfrm>
            <a:off x="684360" y="0"/>
            <a:ext cx="748800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00"/>
                </a:solidFill>
                <a:latin typeface="Times New Roman"/>
              </a:rPr>
              <a:t>盼望着，盼望着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00"/>
                </a:solidFill>
                <a:latin typeface="Times New Roman"/>
              </a:rPr>
              <a:t>东风来了，春天的脚步近了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1692360" y="764280"/>
            <a:ext cx="6456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叠用“盼望着”，反复咏叹，表现了作者渴望春天到来的迫切心情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755640" y="306648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脚步近了”把春天比拟作人。使人感到亲切、受到感染，富有情趣。从盼望到感到春风来了，到仿佛听到春天的脚步声，步步逼近，形象地写出了作者盼春的急切和得知春来的喜悦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4" name="" descr=""/>
          <p:cNvPicPr/>
          <p:nvPr/>
        </p:nvPicPr>
        <p:blipFill>
          <a:blip r:embed="rId1"/>
          <a:stretch/>
        </p:blipFill>
        <p:spPr>
          <a:xfrm>
            <a:off x="7740720" y="0"/>
            <a:ext cx="1403280" cy="2698920"/>
          </a:xfrm>
          <a:prstGeom prst="rect">
            <a:avLst/>
          </a:prstGeom>
          <a:ln w="0">
            <a:noFill/>
          </a:ln>
        </p:spPr>
      </p:pic>
      <p:pic>
        <p:nvPicPr>
          <p:cNvPr id="545" name="" descr=""/>
          <p:cNvPicPr/>
          <p:nvPr/>
        </p:nvPicPr>
        <p:blipFill>
          <a:blip r:embed="rId2"/>
          <a:stretch/>
        </p:blipFill>
        <p:spPr>
          <a:xfrm>
            <a:off x="0" y="5877000"/>
            <a:ext cx="9144000" cy="981000"/>
          </a:xfrm>
          <a:prstGeom prst="rect">
            <a:avLst/>
          </a:prstGeom>
          <a:ln w="0">
            <a:noFill/>
          </a:ln>
        </p:spPr>
      </p:pic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第二部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Arial"/>
              </a:rPr>
              <a:t>1</a:t>
            </a:r>
            <a:r>
              <a:rPr b="1" lang="zh-CN" sz="4400" spc="-1" strike="noStrike">
                <a:solidFill>
                  <a:srgbClr val="cc0000"/>
                </a:solidFill>
                <a:latin typeface="Arial"/>
              </a:rPr>
              <a:t>、自由朗读课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Arial"/>
              </a:rPr>
              <a:t>2</a:t>
            </a:r>
            <a:r>
              <a:rPr b="1" lang="zh-CN" sz="4400" spc="-1" strike="noStrike">
                <a:solidFill>
                  <a:srgbClr val="cc0000"/>
                </a:solidFill>
                <a:latin typeface="Arial"/>
              </a:rPr>
              <a:t>、思考、讨论：第</a:t>
            </a:r>
            <a:r>
              <a:rPr b="1" lang="zh-CN" sz="4400" spc="-1" strike="noStrike">
                <a:solidFill>
                  <a:srgbClr val="cc0000"/>
                </a:solidFill>
                <a:latin typeface="Arial"/>
              </a:rPr>
              <a:t>2</a:t>
            </a:r>
            <a:r>
              <a:rPr b="1" lang="zh-CN" sz="4400" spc="-1" strike="noStrike">
                <a:solidFill>
                  <a:srgbClr val="cc0000"/>
                </a:solidFill>
                <a:latin typeface="Arial"/>
              </a:rPr>
              <a:t>自然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Arial"/>
              </a:rPr>
              <a:t>与</a:t>
            </a:r>
            <a:r>
              <a:rPr b="1" lang="zh-CN" sz="4400" spc="-1" strike="noStrike">
                <a:solidFill>
                  <a:srgbClr val="cc0000"/>
                </a:solidFill>
                <a:latin typeface="Arial"/>
              </a:rPr>
              <a:t>3-7</a:t>
            </a:r>
            <a:r>
              <a:rPr b="1" lang="zh-CN" sz="4400" spc="-1" strike="noStrike">
                <a:solidFill>
                  <a:srgbClr val="cc0000"/>
                </a:solidFill>
                <a:latin typeface="Arial"/>
              </a:rPr>
              <a:t>自然段存在着什么关系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>
            <a:hlinkClick r:id="" action="ppaction://hlinkshowjump?jump=previousslide"/>
          </p:cNvPr>
          <p:cNvSpPr/>
          <p:nvPr/>
        </p:nvSpPr>
        <p:spPr>
          <a:xfrm>
            <a:off x="0" y="6210360"/>
            <a:ext cx="576360" cy="647640"/>
          </a:xfrm>
          <a:custGeom>
            <a:avLst/>
            <a:gdLst>
              <a:gd name="textAreaLeft" fmla="*/ 37080 w 576360"/>
              <a:gd name="textAreaRight" fmla="*/ 539280 w 576360"/>
              <a:gd name="textAreaTop" fmla="*/ 37080 h 647640"/>
              <a:gd name="textAreaBottom" fmla="*/ 610560 h 647640"/>
            </a:gdLst>
            <a:ahLst/>
            <a:rect l="textAreaLeft" t="textAreaTop" r="textAreaRight" b="textAreaBottom"/>
            <a:pathLst>
              <a:path w="21600" h="24270">
                <a:moveTo>
                  <a:pt x="0" y="0"/>
                </a:moveTo>
                <a:lnTo>
                  <a:pt x="21600" y="0"/>
                </a:lnTo>
                <a:lnTo>
                  <a:pt x="21600" y="24270"/>
                </a:lnTo>
                <a:lnTo>
                  <a:pt x="0" y="24270"/>
                </a:lnTo>
                <a:close/>
              </a:path>
              <a:path fill="lightenLess" w="21600" h="2427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70">
                <a:moveTo>
                  <a:pt x="21600" y="0"/>
                </a:moveTo>
                <a:lnTo>
                  <a:pt x="21600" y="24270"/>
                </a:lnTo>
                <a:lnTo>
                  <a:pt x="20200" y="22870"/>
                </a:lnTo>
                <a:lnTo>
                  <a:pt x="20200" y="1400"/>
                </a:lnTo>
                <a:close/>
              </a:path>
              <a:path fill="darkenLess" w="21600" h="24270">
                <a:moveTo>
                  <a:pt x="21600" y="24270"/>
                </a:moveTo>
                <a:lnTo>
                  <a:pt x="0" y="24270"/>
                </a:lnTo>
                <a:lnTo>
                  <a:pt x="1400" y="22870"/>
                </a:lnTo>
                <a:lnTo>
                  <a:pt x="20200" y="22870"/>
                </a:lnTo>
                <a:close/>
              </a:path>
              <a:path fill="lighten" w="21600" h="24270">
                <a:moveTo>
                  <a:pt x="0" y="24270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70"/>
                </a:lnTo>
                <a:close/>
              </a:path>
              <a:path fill="darken" w="21600" h="24270">
                <a:moveTo>
                  <a:pt x="3794" y="12135"/>
                </a:moveTo>
                <a:lnTo>
                  <a:pt x="17806" y="5128"/>
                </a:lnTo>
                <a:lnTo>
                  <a:pt x="17806" y="19141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9" name="" descr=""/>
          <p:cNvPicPr/>
          <p:nvPr/>
        </p:nvPicPr>
        <p:blipFill>
          <a:blip r:embed="rId3"/>
          <a:stretch/>
        </p:blipFill>
        <p:spPr>
          <a:xfrm>
            <a:off x="7740720" y="2637000"/>
            <a:ext cx="1403280" cy="3384360"/>
          </a:xfrm>
          <a:prstGeom prst="rect">
            <a:avLst/>
          </a:prstGeom>
          <a:ln w="0">
            <a:noFill/>
          </a:ln>
        </p:spPr>
      </p:pic>
      <p:pic>
        <p:nvPicPr>
          <p:cNvPr id="550" name="" descr=""/>
          <p:cNvPicPr/>
          <p:nvPr/>
        </p:nvPicPr>
        <p:blipFill>
          <a:blip r:embed="rId4"/>
          <a:stretch/>
        </p:blipFill>
        <p:spPr>
          <a:xfrm>
            <a:off x="4140360" y="5734080"/>
            <a:ext cx="460080" cy="504720"/>
          </a:xfrm>
          <a:prstGeom prst="rect">
            <a:avLst/>
          </a:prstGeom>
          <a:ln w="0">
            <a:noFill/>
          </a:ln>
        </p:spPr>
      </p:pic>
      <p:pic>
        <p:nvPicPr>
          <p:cNvPr id="55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50920" y="333360"/>
            <a:ext cx="565200" cy="501840"/>
          </a:xfrm>
          <a:prstGeom prst="rect">
            <a:avLst/>
          </a:prstGeom>
          <a:ln w="0">
            <a:noFill/>
          </a:ln>
        </p:spPr>
      </p:pic>
      <p:pic>
        <p:nvPicPr>
          <p:cNvPr id="552" name="" descr=""/>
          <p:cNvPicPr/>
          <p:nvPr/>
        </p:nvPicPr>
        <p:blipFill>
          <a:blip r:embed="rId7"/>
          <a:stretch/>
        </p:blipFill>
        <p:spPr>
          <a:xfrm>
            <a:off x="2484360" y="5229360"/>
            <a:ext cx="408240" cy="44748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7885080" y="1341360"/>
            <a:ext cx="539640" cy="479520"/>
          </a:xfrm>
          <a:prstGeom prst="rect">
            <a:avLst/>
          </a:prstGeom>
          <a:ln w="0">
            <a:noFill/>
          </a:ln>
        </p:spPr>
      </p:pic>
      <p:pic>
        <p:nvPicPr>
          <p:cNvPr id="554" name="" descr="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7380360" y="2924280"/>
            <a:ext cx="469800" cy="417240"/>
          </a:xfrm>
          <a:prstGeom prst="rect">
            <a:avLst/>
          </a:prstGeom>
          <a:ln w="0">
            <a:noFill/>
          </a:ln>
        </p:spPr>
      </p:pic>
      <p:pic>
        <p:nvPicPr>
          <p:cNvPr id="555" name="" descr=""/>
          <p:cNvPicPr/>
          <p:nvPr/>
        </p:nvPicPr>
        <p:blipFill>
          <a:blip r:embed="rId12"/>
          <a:stretch/>
        </p:blipFill>
        <p:spPr>
          <a:xfrm rot="9023400">
            <a:off x="8639280" y="5013000"/>
            <a:ext cx="504720" cy="449280"/>
          </a:xfrm>
          <a:prstGeom prst="rect">
            <a:avLst/>
          </a:prstGeom>
          <a:ln w="0">
            <a:noFill/>
          </a:ln>
        </p:spPr>
      </p:pic>
      <p:pic>
        <p:nvPicPr>
          <p:cNvPr id="556" name="" descr=""/>
          <p:cNvPicPr/>
          <p:nvPr/>
        </p:nvPicPr>
        <p:blipFill>
          <a:blip r:embed="rId13"/>
          <a:stretch/>
        </p:blipFill>
        <p:spPr>
          <a:xfrm>
            <a:off x="7812000" y="4365720"/>
            <a:ext cx="585720" cy="439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0000"/>
                </a:solidFill>
                <a:latin typeface="Arial"/>
              </a:rPr>
              <a:t>总分关系</a:t>
            </a:r>
            <a:r>
              <a:rPr b="0" lang="zh-CN" sz="4400" spc="-1" strike="noStrike">
                <a:solidFill>
                  <a:srgbClr val="cc0000"/>
                </a:solidFill>
                <a:latin typeface="Arial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这里采用“先总说，后分说”的结构来描绘春天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99"/>
                </a:solidFill>
                <a:latin typeface="Arial"/>
              </a:rPr>
              <a:t>文中写了“山、水、太阳”，总写了春回大地，万物复苏的整体轮廓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9" name="" descr=""/>
          <p:cNvPicPr/>
          <p:nvPr/>
        </p:nvPicPr>
        <p:blipFill>
          <a:blip r:embed="rId1"/>
          <a:stretch/>
        </p:blipFill>
        <p:spPr>
          <a:xfrm>
            <a:off x="0" y="4437000"/>
            <a:ext cx="9144000" cy="2421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"/>
                                        <p:tgtEl>
                                          <p:spTgt spid="5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400" fill="hold"/>
                                        <p:tgtEl>
                                          <p:spTgt spid="5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400" fill="hold"/>
                                        <p:tgtEl>
                                          <p:spTgt spid="5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0" name="" descr=""/>
          <p:cNvPicPr/>
          <p:nvPr/>
        </p:nvPicPr>
        <p:blipFill>
          <a:blip r:embed="rId1"/>
          <a:stretch/>
        </p:blipFill>
        <p:spPr>
          <a:xfrm>
            <a:off x="0" y="4076640"/>
            <a:ext cx="9144000" cy="2781360"/>
          </a:xfrm>
          <a:prstGeom prst="rect">
            <a:avLst/>
          </a:prstGeom>
          <a:ln w="0">
            <a:noFill/>
          </a:ln>
        </p:spPr>
      </p:pic>
      <p:sp>
        <p:nvSpPr>
          <p:cNvPr id="561" name=""/>
          <p:cNvSpPr/>
          <p:nvPr/>
        </p:nvSpPr>
        <p:spPr>
          <a:xfrm>
            <a:off x="2268360" y="1628640"/>
            <a:ext cx="525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大地上万物复苏，山绿了，水大了，太阳变红了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611280" y="333360"/>
            <a:ext cx="777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Times New Roman"/>
              </a:rPr>
              <a:t>把下面句子和第二段做比较，分析表达效果的不同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"/>
          <p:cNvSpPr/>
          <p:nvPr/>
        </p:nvSpPr>
        <p:spPr>
          <a:xfrm>
            <a:off x="179280" y="1474200"/>
            <a:ext cx="8664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“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一切”是指的万物，对大自然的总观。“睡醒”“张开了眼”是比喻，也是拟人。这个句子十分形象地描绘了万物经过漫长的严冬后，蒙受春的温暖、滋润得以复苏的神态。“欣欣然”（欢欢喜喜的样子）一词又传神地表达出万物苏醒时的欣喜感情。语言清新，比喻贴切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684360" y="3641760"/>
            <a:ext cx="777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太阳的脸红起来了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用了拟人手法，生动形象、亲切的表现了春日来临，春日融融的暖意。表达了作者的喜悦心情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5" name="" descr=""/>
          <p:cNvPicPr/>
          <p:nvPr/>
        </p:nvPicPr>
        <p:blipFill>
          <a:blip r:embed="rId1"/>
          <a:stretch/>
        </p:blipFill>
        <p:spPr>
          <a:xfrm>
            <a:off x="0" y="5013360"/>
            <a:ext cx="9144000" cy="18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6" name="" descr=""/>
          <p:cNvPicPr/>
          <p:nvPr/>
        </p:nvPicPr>
        <p:blipFill>
          <a:blip r:embed="rId1"/>
          <a:stretch/>
        </p:blipFill>
        <p:spPr>
          <a:xfrm>
            <a:off x="0" y="4365720"/>
            <a:ext cx="9144000" cy="2492280"/>
          </a:xfrm>
          <a:prstGeom prst="rect">
            <a:avLst/>
          </a:prstGeom>
          <a:ln w="0">
            <a:noFill/>
          </a:ln>
        </p:spPr>
      </p:pic>
      <p:sp>
        <p:nvSpPr>
          <p:cNvPr id="567" name=""/>
          <p:cNvSpPr/>
          <p:nvPr/>
        </p:nvSpPr>
        <p:spPr>
          <a:xfrm>
            <a:off x="2556000" y="907920"/>
            <a:ext cx="3809880" cy="12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611280" y="476280"/>
            <a:ext cx="799308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隶书"/>
              </a:rPr>
              <a:t>                 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春草图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隶书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小草偷偷地从土里钻出来，嫩嫩的，绿绿的。园子里，田野里，瞧去，一大片一大片满是的。坐着，躺着，打两个滚，踢几脚球，赛几趟跑，捉几回迷藏。风轻悄悄的，草软绵绵的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horz"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"/>
          <p:cNvSpPr/>
          <p:nvPr/>
        </p:nvSpPr>
        <p:spPr>
          <a:xfrm>
            <a:off x="611280" y="2036520"/>
            <a:ext cx="784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春草散章               杨林雪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连篇累牍，风之笔蘸着水之墨，春草将她绿色的文字刻于春天的大地上。 冬雪渐消，湿润的泥沼里，草种子就潜心于构思了。春天的诠释在她的横叶竖茎里悄悄拱出地面。 或章，或篇，或段，或句，写满山坡，写满原野，写满堤边岸头，写满水泽沟壑，甚至写满农家小院的墙头和屋檐——春草任性，最得意于写她的随笔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611280" y="4878720"/>
            <a:ext cx="795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时节更替，四季轮回。在经历了寒冬的磨砺之后，世间万物从一片苍茫萧瑟中复苏，城市、乡村到处飘荡着早春的气息，暖意融融。此时，被人们忽视的小草也正默默地生长着，穿石隙、顶砖块、破硬土、迎春风、沐春雨，一寸寸地长高，一点点地爬坡，展示着春天的生机与活力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755640" y="189000"/>
            <a:ext cx="77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Times New Roman"/>
              </a:rPr>
              <a:t>阅读下面两段文字，和课文比较，描写春草的特点和表达作者的情感有什么不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"/>
          <p:cNvSpPr/>
          <p:nvPr/>
        </p:nvSpPr>
        <p:spPr>
          <a:xfrm>
            <a:off x="684360" y="260280"/>
            <a:ext cx="223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学习目标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4" name="" descr=""/>
          <p:cNvPicPr/>
          <p:nvPr/>
        </p:nvPicPr>
        <p:blipFill>
          <a:blip r:embed="rId1"/>
          <a:stretch/>
        </p:blipFill>
        <p:spPr>
          <a:xfrm>
            <a:off x="0" y="4365720"/>
            <a:ext cx="9144000" cy="2492280"/>
          </a:xfrm>
          <a:prstGeom prst="rect">
            <a:avLst/>
          </a:prstGeom>
          <a:ln w="0">
            <a:noFill/>
          </a:ln>
        </p:spPr>
      </p:pic>
      <p:sp>
        <p:nvSpPr>
          <p:cNvPr id="485" name=""/>
          <p:cNvSpPr/>
          <p:nvPr/>
        </p:nvSpPr>
        <p:spPr>
          <a:xfrm>
            <a:off x="1042920" y="1341360"/>
            <a:ext cx="7274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1.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诵读文章，体会作者 对大自然的热爱之情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2.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欣赏优美精彩的语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3.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学习运用多种手法写景的方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"/>
          <p:cNvSpPr/>
          <p:nvPr/>
        </p:nvSpPr>
        <p:spPr>
          <a:xfrm>
            <a:off x="1290960" y="40464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Times New Roman"/>
              </a:rPr>
              <a:t>春草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324000" y="1268280"/>
            <a:ext cx="30258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思考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作者从哪些方面描绘春草图？在词语的运用上有什么特点？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3924360" y="662040"/>
            <a:ext cx="4968720" cy="44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ff00ff"/>
                </a:solidFill>
                <a:latin typeface="Arial"/>
              </a:rPr>
              <a:t>情态：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</a:rPr>
              <a:t>用了“偷偷”“钻”，给人以不知不觉的感觉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ff00ff"/>
                </a:solidFill>
                <a:latin typeface="Arial"/>
              </a:rPr>
              <a:t>色泽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</a:rPr>
              <a:t>：“嫩嫩”“绿绿”使小草惹人喜 爱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ff00ff"/>
                </a:solidFill>
                <a:latin typeface="Arial"/>
              </a:rPr>
              <a:t>长势：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</a:rPr>
              <a:t>用了“一大片一大片满是的”给人以清新悦目之感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ff00ff"/>
                </a:solidFill>
                <a:latin typeface="Arial"/>
              </a:rPr>
              <a:t>质地：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</a:rPr>
              <a:t>用“软绵绵”，让人愿意和它亲近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</a:rPr>
              <a:t>这段描写用了较多的叠用的形容词，对小草喜爱之情油然而生。</a:t>
            </a:r>
            <a:br>
              <a:rPr sz="2800"/>
            </a:br>
            <a:br>
              <a:rPr sz="1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5" name="" descr=""/>
          <p:cNvPicPr/>
          <p:nvPr/>
        </p:nvPicPr>
        <p:blipFill>
          <a:blip r:embed="rId1"/>
          <a:stretch/>
        </p:blipFill>
        <p:spPr>
          <a:xfrm>
            <a:off x="0" y="4608360"/>
            <a:ext cx="3708360" cy="22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8" dur="20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"/>
          <p:cNvSpPr/>
          <p:nvPr/>
        </p:nvSpPr>
        <p:spPr>
          <a:xfrm>
            <a:off x="3753000" y="149400"/>
            <a:ext cx="1826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8000"/>
                </a:solidFill>
                <a:latin typeface="Times New Roman"/>
                <a:ea typeface="华文新魏"/>
              </a:rPr>
              <a:t>春草图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0" y="2565360"/>
            <a:ext cx="986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坐、躺、滚、踢、跑、捉—人（喜悦、高兴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395280" y="1557360"/>
            <a:ext cx="874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00"/>
                </a:solidFill>
                <a:latin typeface="Arial"/>
              </a:rPr>
              <a:t>嫩、绿、满、软——草（生机勃勃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9" name=""/>
          <p:cNvGrpSpPr/>
          <p:nvPr/>
        </p:nvGrpSpPr>
        <p:grpSpPr>
          <a:xfrm>
            <a:off x="2195640" y="3213000"/>
            <a:ext cx="4319280" cy="1843920"/>
            <a:chOff x="2195640" y="3213000"/>
            <a:chExt cx="4319280" cy="1843920"/>
          </a:xfrm>
        </p:grpSpPr>
        <p:sp>
          <p:nvSpPr>
            <p:cNvPr id="580" name=""/>
            <p:cNvSpPr/>
            <p:nvPr/>
          </p:nvSpPr>
          <p:spPr>
            <a:xfrm>
              <a:off x="4023720" y="3213000"/>
              <a:ext cx="912240" cy="1079640"/>
            </a:xfrm>
            <a:prstGeom prst="downArrow">
              <a:avLst>
                <a:gd name="adj1" fmla="val 50000"/>
                <a:gd name="adj2" fmla="val 29588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2195640" y="4292640"/>
              <a:ext cx="43192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cc0000"/>
                  </a:solidFill>
                  <a:latin typeface="Arial"/>
                </a:rPr>
                <a:t>人与自然的和谐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82" name="" descr=""/>
          <p:cNvPicPr/>
          <p:nvPr/>
        </p:nvPicPr>
        <p:blipFill>
          <a:blip r:embed="rId1"/>
          <a:stretch/>
        </p:blipFill>
        <p:spPr>
          <a:xfrm>
            <a:off x="0" y="5084640"/>
            <a:ext cx="9144000" cy="17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9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"/>
          <p:cNvSpPr/>
          <p:nvPr/>
        </p:nvSpPr>
        <p:spPr>
          <a:xfrm>
            <a:off x="838080" y="1371600"/>
            <a:ext cx="7848720" cy="642600"/>
          </a:xfrm>
          <a:prstGeom prst="rect">
            <a:avLst/>
          </a:prstGeom>
          <a:solidFill>
            <a:srgbClr val="ffffff">
              <a:alpha val="73000"/>
            </a:srgbClr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99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桃树、杏树、梨树，你不让我，我不让你，都开满了花赶趟儿。红的像火，粉的像霞，白的像雪。花里带着甜味；闭了眼，树上仿佛已经满是桃儿、杏儿、梨儿。花下成千成百的蜜蜂嗡嗡的闹着，大小的蝴蝶飞来飞去。野花遍地是：杂样儿，有名字的，没名字的，散在草丛里像眼睛，像星星，还眨呀眨的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2666880" y="533520"/>
            <a:ext cx="4800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2286000" y="533520"/>
            <a:ext cx="5334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99"/>
                </a:solidFill>
                <a:latin typeface="Times New Roman"/>
                <a:ea typeface="华文行楷"/>
              </a:rPr>
              <a:t>            </a:t>
            </a:r>
            <a:r>
              <a:rPr b="1" lang="zh-CN" sz="4000" spc="-1" strike="noStrike">
                <a:solidFill>
                  <a:srgbClr val="ff3399"/>
                </a:solidFill>
                <a:latin typeface="Times New Roman"/>
                <a:ea typeface="华文行楷"/>
              </a:rPr>
              <a:t>春花图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 flipH="1">
            <a:off x="7093080" y="1989000"/>
            <a:ext cx="358560" cy="503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 flipH="1">
            <a:off x="6587640" y="2637000"/>
            <a:ext cx="358920" cy="502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 flipH="1">
            <a:off x="1547280" y="4724280"/>
            <a:ext cx="358920" cy="503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4788000" y="3716280"/>
            <a:ext cx="358560" cy="503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horz"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7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"/>
          <p:cNvSpPr/>
          <p:nvPr/>
        </p:nvSpPr>
        <p:spPr>
          <a:xfrm>
            <a:off x="4459320" y="475560"/>
            <a:ext cx="48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绿杨烟外晓寒轻，红杏枝头春意闹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6684480" y="1195920"/>
            <a:ext cx="61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【玉楼春】宋祁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26920" y="2199600"/>
            <a:ext cx="770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“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闹”字不仅形容出红杏的众多和纷繁，而且，它把生机勃勃的大好春光全都点染出来了。“闹”字不仅有色，而且似乎有声，王国维在《人间词话》中说：“着一‘闹’字而境界全出。”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3" name="" descr=""/>
          <p:cNvPicPr/>
          <p:nvPr/>
        </p:nvPicPr>
        <p:blipFill>
          <a:blip r:embed="rId1"/>
          <a:stretch/>
        </p:blipFill>
        <p:spPr>
          <a:xfrm>
            <a:off x="0" y="5157720"/>
            <a:ext cx="9144000" cy="170028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4" name="" descr=""/>
          <p:cNvPicPr/>
          <p:nvPr/>
        </p:nvPicPr>
        <p:blipFill>
          <a:blip r:embed="rId1"/>
          <a:stretch/>
        </p:blipFill>
        <p:spPr>
          <a:xfrm>
            <a:off x="0" y="5157720"/>
            <a:ext cx="9144000" cy="1700280"/>
          </a:xfrm>
          <a:prstGeom prst="rect">
            <a:avLst/>
          </a:prstGeom>
          <a:ln w="0">
            <a:noFill/>
          </a:ln>
        </p:spPr>
      </p:pic>
      <p:sp>
        <p:nvSpPr>
          <p:cNvPr id="595" name="PlaceHolder 1"/>
          <p:cNvSpPr>
            <a:spLocks noGrp="1"/>
          </p:cNvSpPr>
          <p:nvPr>
            <p:ph/>
          </p:nvPr>
        </p:nvSpPr>
        <p:spPr>
          <a:xfrm>
            <a:off x="179280" y="1196640"/>
            <a:ext cx="86868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齐读第四自然段，欣赏“</a:t>
            </a: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春花图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”，思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本段作者是抓住了春花的什么</a:t>
            </a: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特征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来描写的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作者写蝴蝶、蜜蜂有什么</a:t>
            </a: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作用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本段运用了哪些</a:t>
            </a: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修辞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方法？你能说一说这样写得好处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6" name="" descr=""/>
          <p:cNvPicPr/>
          <p:nvPr/>
        </p:nvPicPr>
        <p:blipFill>
          <a:blip r:embed="rId2"/>
          <a:stretch/>
        </p:blipFill>
        <p:spPr>
          <a:xfrm>
            <a:off x="324000" y="404640"/>
            <a:ext cx="1361880" cy="905040"/>
          </a:xfrm>
          <a:prstGeom prst="rect">
            <a:avLst/>
          </a:prstGeom>
          <a:ln w="0">
            <a:noFill/>
          </a:ln>
        </p:spPr>
      </p:pic>
      <p:sp>
        <p:nvSpPr>
          <p:cNvPr id="597" name=""/>
          <p:cNvSpPr/>
          <p:nvPr/>
        </p:nvSpPr>
        <p:spPr>
          <a:xfrm>
            <a:off x="1403280" y="2349360"/>
            <a:ext cx="44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黑体"/>
              </a:rPr>
              <a:t>（花朵多、花色艳、花味甜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1403280" y="3429000"/>
            <a:ext cx="489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黑体"/>
              </a:rPr>
              <a:t>侧面衬托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419640" y="4653000"/>
            <a:ext cx="49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比喻、排比、拟人，此处还运用了联想的写作手法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----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由花甜联想到果实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"/>
          <p:cNvSpPr/>
          <p:nvPr/>
        </p:nvSpPr>
        <p:spPr>
          <a:xfrm>
            <a:off x="324000" y="57240"/>
            <a:ext cx="82803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红花有了绿叶的衬托，更显其妩媚娇艳。　　     月亮有了浮云的衬托，更显其明亮皎洁。</a:t>
            </a:r>
            <a:br>
              <a:rPr sz="2800"/>
            </a:b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　中国古代画论中有“借柳画风”“借草写春”之说，也讲的是衬托的道理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衬托，是文学创作中的重要技法。它是指从侧面着意描绘与烘托，用以突出强调要表现的人、事、景、物，使之更加生动鲜明。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衬托可以丰富文章内容，突出主题思想，大大增强作品的艺术感染力。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1" name="" descr=""/>
          <p:cNvPicPr/>
          <p:nvPr/>
        </p:nvPicPr>
        <p:blipFill>
          <a:blip r:embed="rId1"/>
          <a:stretch/>
        </p:blipFill>
        <p:spPr>
          <a:xfrm>
            <a:off x="0" y="4653000"/>
            <a:ext cx="9144000" cy="22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2" name="" descr=""/>
          <p:cNvPicPr/>
          <p:nvPr/>
        </p:nvPicPr>
        <p:blipFill>
          <a:blip r:embed="rId1"/>
          <a:stretch/>
        </p:blipFill>
        <p:spPr>
          <a:xfrm>
            <a:off x="7740720" y="2637000"/>
            <a:ext cx="1403280" cy="3384360"/>
          </a:xfrm>
          <a:prstGeom prst="rect">
            <a:avLst/>
          </a:prstGeom>
          <a:ln w="0">
            <a:noFill/>
          </a:ln>
        </p:spPr>
      </p:pic>
      <p:pic>
        <p:nvPicPr>
          <p:cNvPr id="603" name="" descr=""/>
          <p:cNvPicPr/>
          <p:nvPr/>
        </p:nvPicPr>
        <p:blipFill>
          <a:blip r:embed="rId2"/>
          <a:stretch/>
        </p:blipFill>
        <p:spPr>
          <a:xfrm>
            <a:off x="7740720" y="0"/>
            <a:ext cx="1403280" cy="2698920"/>
          </a:xfrm>
          <a:prstGeom prst="rect">
            <a:avLst/>
          </a:prstGeom>
          <a:ln w="0">
            <a:noFill/>
          </a:ln>
        </p:spPr>
      </p:pic>
      <p:pic>
        <p:nvPicPr>
          <p:cNvPr id="604" name="" descr=""/>
          <p:cNvPicPr/>
          <p:nvPr/>
        </p:nvPicPr>
        <p:blipFill>
          <a:blip r:embed="rId3"/>
          <a:stretch/>
        </p:blipFill>
        <p:spPr>
          <a:xfrm>
            <a:off x="0" y="5877000"/>
            <a:ext cx="9144000" cy="981000"/>
          </a:xfrm>
          <a:prstGeom prst="rect">
            <a:avLst/>
          </a:prstGeom>
          <a:ln w="0">
            <a:noFill/>
          </a:ln>
        </p:spPr>
      </p:pic>
      <p:pic>
        <p:nvPicPr>
          <p:cNvPr id="605" name="" descr=""/>
          <p:cNvPicPr/>
          <p:nvPr/>
        </p:nvPicPr>
        <p:blipFill>
          <a:blip r:embed="rId4"/>
          <a:stretch/>
        </p:blipFill>
        <p:spPr>
          <a:xfrm>
            <a:off x="7812000" y="692280"/>
            <a:ext cx="461880" cy="506160"/>
          </a:xfrm>
          <a:prstGeom prst="rect">
            <a:avLst/>
          </a:prstGeom>
          <a:ln w="0">
            <a:noFill/>
          </a:ln>
        </p:spPr>
      </p:pic>
      <p:pic>
        <p:nvPicPr>
          <p:cNvPr id="606" name="" descr=""/>
          <p:cNvPicPr/>
          <p:nvPr/>
        </p:nvPicPr>
        <p:blipFill>
          <a:blip r:embed="rId5"/>
          <a:stretch/>
        </p:blipFill>
        <p:spPr>
          <a:xfrm>
            <a:off x="4140360" y="5734080"/>
            <a:ext cx="460080" cy="504720"/>
          </a:xfrm>
          <a:prstGeom prst="rect">
            <a:avLst/>
          </a:prstGeom>
          <a:ln w="0">
            <a:noFill/>
          </a:ln>
        </p:spPr>
      </p:pic>
      <p:pic>
        <p:nvPicPr>
          <p:cNvPr id="607" name="" descr=""/>
          <p:cNvPicPr/>
          <p:nvPr/>
        </p:nvPicPr>
        <p:blipFill>
          <a:blip r:embed="rId6"/>
          <a:stretch/>
        </p:blipFill>
        <p:spPr>
          <a:xfrm>
            <a:off x="7812000" y="4365720"/>
            <a:ext cx="585720" cy="439560"/>
          </a:xfrm>
          <a:prstGeom prst="rect">
            <a:avLst/>
          </a:prstGeom>
          <a:ln w="0">
            <a:noFill/>
          </a:ln>
        </p:spPr>
      </p:pic>
      <p:pic>
        <p:nvPicPr>
          <p:cNvPr id="608" name="" descr=""/>
          <p:cNvPicPr/>
          <p:nvPr/>
        </p:nvPicPr>
        <p:blipFill>
          <a:blip r:embed="rId7"/>
          <a:stretch/>
        </p:blipFill>
        <p:spPr>
          <a:xfrm>
            <a:off x="2484360" y="5229360"/>
            <a:ext cx="408240" cy="447480"/>
          </a:xfrm>
          <a:prstGeom prst="rect">
            <a:avLst/>
          </a:prstGeom>
          <a:ln w="0">
            <a:noFill/>
          </a:ln>
        </p:spPr>
      </p:pic>
      <p:pic>
        <p:nvPicPr>
          <p:cNvPr id="609" name="" descr=""/>
          <p:cNvPicPr/>
          <p:nvPr/>
        </p:nvPicPr>
        <p:blipFill>
          <a:blip r:embed="rId8"/>
          <a:stretch/>
        </p:blipFill>
        <p:spPr>
          <a:xfrm>
            <a:off x="7380360" y="2924280"/>
            <a:ext cx="469800" cy="417240"/>
          </a:xfrm>
          <a:prstGeom prst="rect">
            <a:avLst/>
          </a:prstGeom>
          <a:ln w="0">
            <a:noFill/>
          </a:ln>
        </p:spPr>
      </p:pic>
      <p:pic>
        <p:nvPicPr>
          <p:cNvPr id="610" name="" descr=""/>
          <p:cNvPicPr/>
          <p:nvPr/>
        </p:nvPicPr>
        <p:blipFill>
          <a:blip r:embed="rId9"/>
          <a:stretch/>
        </p:blipFill>
        <p:spPr>
          <a:xfrm>
            <a:off x="8172360" y="836640"/>
            <a:ext cx="540000" cy="479520"/>
          </a:xfrm>
          <a:prstGeom prst="rect">
            <a:avLst/>
          </a:prstGeom>
          <a:ln w="0">
            <a:noFill/>
          </a:ln>
        </p:spPr>
      </p:pic>
      <p:pic>
        <p:nvPicPr>
          <p:cNvPr id="611" name="" descr=""/>
          <p:cNvPicPr/>
          <p:nvPr/>
        </p:nvPicPr>
        <p:blipFill>
          <a:blip r:embed="rId10"/>
          <a:stretch/>
        </p:blipFill>
        <p:spPr>
          <a:xfrm rot="9023400">
            <a:off x="8639280" y="5013000"/>
            <a:ext cx="504720" cy="449280"/>
          </a:xfrm>
          <a:prstGeom prst="rect">
            <a:avLst/>
          </a:prstGeom>
          <a:ln w="0">
            <a:noFill/>
          </a:ln>
        </p:spPr>
      </p:pic>
      <p:sp>
        <p:nvSpPr>
          <p:cNvPr id="612" name=""/>
          <p:cNvSpPr/>
          <p:nvPr/>
        </p:nvSpPr>
        <p:spPr>
          <a:xfrm>
            <a:off x="8317080" y="6165720"/>
            <a:ext cx="425160" cy="358920"/>
          </a:xfrm>
          <a:custGeom>
            <a:avLst/>
            <a:gdLst>
              <a:gd name="textAreaLeft" fmla="*/ 23040 w 425160"/>
              <a:gd name="textAreaRight" fmla="*/ 402120 w 42516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25582" h="21600">
                <a:moveTo>
                  <a:pt x="0" y="0"/>
                </a:moveTo>
                <a:lnTo>
                  <a:pt x="25582" y="0"/>
                </a:lnTo>
                <a:lnTo>
                  <a:pt x="25582" y="21600"/>
                </a:lnTo>
                <a:lnTo>
                  <a:pt x="0" y="21600"/>
                </a:lnTo>
                <a:close/>
              </a:path>
              <a:path fill="lightenLess" w="25582" h="21600">
                <a:moveTo>
                  <a:pt x="0" y="0"/>
                </a:moveTo>
                <a:lnTo>
                  <a:pt x="25582" y="0"/>
                </a:lnTo>
                <a:lnTo>
                  <a:pt x="24182" y="1400"/>
                </a:lnTo>
                <a:lnTo>
                  <a:pt x="1400" y="1400"/>
                </a:lnTo>
                <a:close/>
              </a:path>
              <a:path fill="darken" w="25582" h="21600">
                <a:moveTo>
                  <a:pt x="25582" y="0"/>
                </a:moveTo>
                <a:lnTo>
                  <a:pt x="25582" y="21600"/>
                </a:lnTo>
                <a:lnTo>
                  <a:pt x="24182" y="20200"/>
                </a:lnTo>
                <a:lnTo>
                  <a:pt x="24182" y="1400"/>
                </a:lnTo>
                <a:close/>
              </a:path>
              <a:path fill="darkenLess" w="25582" h="21600">
                <a:moveTo>
                  <a:pt x="255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82" y="20200"/>
                </a:lnTo>
                <a:close/>
              </a:path>
              <a:path fill="lighten" w="255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82" h="21600">
                <a:moveTo>
                  <a:pt x="5785" y="10800"/>
                </a:moveTo>
                <a:lnTo>
                  <a:pt x="19798" y="3794"/>
                </a:lnTo>
                <a:lnTo>
                  <a:pt x="19798" y="17806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3" name="" descr=""/>
          <p:cNvPicPr/>
          <p:nvPr/>
        </p:nvPicPr>
        <p:blipFill>
          <a:blip r:embed="rId11"/>
          <a:stretch/>
        </p:blipFill>
        <p:spPr>
          <a:xfrm>
            <a:off x="250920" y="333360"/>
            <a:ext cx="565200" cy="501840"/>
          </a:xfrm>
          <a:prstGeom prst="rect">
            <a:avLst/>
          </a:prstGeom>
          <a:ln w="0">
            <a:noFill/>
          </a:ln>
        </p:spPr>
      </p:pic>
      <p:sp>
        <p:nvSpPr>
          <p:cNvPr id="614" name=""/>
          <p:cNvSpPr txBox="1"/>
          <p:nvPr/>
        </p:nvSpPr>
        <p:spPr>
          <a:xfrm rot="5400000">
            <a:off x="354600" y="589320"/>
            <a:ext cx="1179360" cy="6667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华文行楷"/>
              </a:rPr>
              <a:t>春花图</a:t>
            </a:r>
            <a:endParaRPr b="0" lang="en-US" sz="2400" spc="1" strike="noStrike">
              <a:ln w="0">
                <a:noFill/>
              </a:ln>
              <a:solidFill>
                <a:srgbClr val="ff6600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615" name=""/>
          <p:cNvSpPr/>
          <p:nvPr/>
        </p:nvSpPr>
        <p:spPr>
          <a:xfrm>
            <a:off x="1258920" y="47628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Times New Roman"/>
                <a:ea typeface="黑体"/>
              </a:rPr>
              <a:t>作者如何全方位的描写春花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0" y="177336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树上繁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979640" y="184464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树中昆虫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3995640" y="191628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树下野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5508720" y="191628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高低结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0" y="270828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眼前花儿争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556000" y="270828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想象、联想到结果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5508720" y="270828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99"/>
                </a:solidFill>
                <a:latin typeface="Times New Roman"/>
                <a:ea typeface="黑体"/>
              </a:rPr>
              <a:t>虚实结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50920" y="35002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花的色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132000" y="3500280"/>
            <a:ext cx="31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花的味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5580000" y="34290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99"/>
                </a:solidFill>
                <a:latin typeface="Times New Roman"/>
                <a:ea typeface="黑体"/>
              </a:rPr>
              <a:t>色味结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0" y="458136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像星星眨呀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3059280" y="450864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暗写风与太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5580000" y="443700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00"/>
                </a:solidFill>
                <a:latin typeface="Times New Roman"/>
                <a:ea typeface="黑体"/>
              </a:rPr>
              <a:t>明暗结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6095880" y="6019920"/>
            <a:ext cx="2438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3708360" y="522936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全方位描绘春花的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476360" y="2060640"/>
            <a:ext cx="457200" cy="0"/>
          </a:xfrm>
          <a:prstGeom prst="line">
            <a:avLst/>
          </a:prstGeom>
          <a:ln w="414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3492360" y="2060640"/>
            <a:ext cx="457200" cy="0"/>
          </a:xfrm>
          <a:prstGeom prst="line">
            <a:avLst/>
          </a:prstGeom>
          <a:ln w="414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124000" y="2924280"/>
            <a:ext cx="457200" cy="0"/>
          </a:xfrm>
          <a:prstGeom prst="line">
            <a:avLst/>
          </a:prstGeom>
          <a:ln w="414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195640" y="3789360"/>
            <a:ext cx="457200" cy="0"/>
          </a:xfrm>
          <a:prstGeom prst="line">
            <a:avLst/>
          </a:prstGeom>
          <a:ln w="414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2195640" y="4797360"/>
            <a:ext cx="457200" cy="0"/>
          </a:xfrm>
          <a:prstGeom prst="line">
            <a:avLst/>
          </a:prstGeom>
          <a:ln w="414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5940360" y="4869000"/>
            <a:ext cx="533520" cy="304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7" name="" descr=""/>
          <p:cNvPicPr/>
          <p:nvPr/>
        </p:nvPicPr>
        <p:blipFill>
          <a:blip r:embed="rId12"/>
          <a:stretch/>
        </p:blipFill>
        <p:spPr>
          <a:xfrm>
            <a:off x="8101080" y="2133720"/>
            <a:ext cx="539640" cy="47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6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6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6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6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6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6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300" fill="hold"/>
                                        <p:tgtEl>
                                          <p:spTgt spid="6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300" fill="hold"/>
                                        <p:tgtEl>
                                          <p:spTgt spid="6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300" fill="hold"/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300" fill="hold"/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"/>
          <p:cNvSpPr/>
          <p:nvPr/>
        </p:nvSpPr>
        <p:spPr>
          <a:xfrm>
            <a:off x="1748520" y="476280"/>
            <a:ext cx="409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你不让我，我不让你，都开满了花赶趟儿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395280" y="907920"/>
            <a:ext cx="808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拟人，从视觉上写出了春花竞相开放的情景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1501560" y="1341360"/>
            <a:ext cx="336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红的像火，粉的像霞，白的像雪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4317840" y="1752480"/>
            <a:ext cx="47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比喻、排比，从视觉上写出了春花争艳，万紫千红的景象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1122480" y="2205000"/>
            <a:ext cx="189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花里带着甜味儿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3582720" y="3276720"/>
            <a:ext cx="108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闭了眼，树上仿佛已经满是桃儿、杏儿、梨儿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1261440" y="371628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想象，由眼前的春花想到秋实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3765600" y="465300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侧面衬托春花的竞相开放，万紫千红，香味浓郁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684360" y="5157720"/>
            <a:ext cx="80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野花遍地是：……散在草丛里像眼睛，像星星，还眨呀眨的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4370040" y="5950080"/>
            <a:ext cx="729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比喻、拟人，从视觉上 写出了野花闪闪发光、轻轻摆动的明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色彩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179280" y="2637000"/>
            <a:ext cx="678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ff"/>
                </a:solidFill>
                <a:latin typeface="Times New Roman"/>
                <a:ea typeface="楷体_GB2312"/>
              </a:rPr>
              <a:t> 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甜”从味觉上写出了花的香味儿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755640" y="4221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花下成千成百的蜜蜂嗡嗡地闹着，大小的蝴蝶飞来飞去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horz"/>
  </p:transition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9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2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5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8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1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4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"/>
          <p:cNvSpPr/>
          <p:nvPr/>
        </p:nvSpPr>
        <p:spPr>
          <a:xfrm>
            <a:off x="1332000" y="765000"/>
            <a:ext cx="6629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i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如何写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50920" y="1844640"/>
            <a:ext cx="805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一、运用各种修辞手法，如比喻、拟人、排比等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1042920" y="2924280"/>
            <a:ext cx="8640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二、从不同的感官角度来描写，如视觉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听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触觉等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547640" y="4221000"/>
            <a:ext cx="83059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三、按照一定的顺序来描写，如从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到低、从近到远等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2340000" y="5589720"/>
            <a:ext cx="838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四、虚实结合，动静结合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468360" y="443700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9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4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9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04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09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/>
          </p:nvPr>
        </p:nvSpPr>
        <p:spPr>
          <a:xfrm>
            <a:off x="539280" y="1628640"/>
            <a:ext cx="860436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默读“</a:t>
            </a: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春风图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”，把每一句标上序号，做一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、这段文字的第一句从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____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觉写春风的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_____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，第二句从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_____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觉写春风的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_____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，第三四句从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______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觉写春风的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_______  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，从而把难以捉摸的春风写的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_____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、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_____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、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______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、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______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、“卖弄”本属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___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的感情色彩，这里却带着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____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的感情色彩，运用了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____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的修辞手法，写出了鸟儿的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_____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、“像母亲的手抚摸着你”从修辞手法看，既有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____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又有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____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，写出了春风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____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的特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7" name="" descr=""/>
          <p:cNvPicPr/>
          <p:nvPr/>
        </p:nvPicPr>
        <p:blipFill>
          <a:blip r:embed="rId1"/>
          <a:stretch/>
        </p:blipFill>
        <p:spPr>
          <a:xfrm>
            <a:off x="7380360" y="404640"/>
            <a:ext cx="1333440" cy="1571760"/>
          </a:xfrm>
          <a:prstGeom prst="rect">
            <a:avLst/>
          </a:prstGeom>
          <a:ln w="0">
            <a:noFill/>
          </a:ln>
        </p:spPr>
      </p:pic>
      <p:sp>
        <p:nvSpPr>
          <p:cNvPr id="658" name=""/>
          <p:cNvSpPr/>
          <p:nvPr/>
        </p:nvSpPr>
        <p:spPr>
          <a:xfrm>
            <a:off x="4716360" y="2133720"/>
            <a:ext cx="11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7236000" y="2133720"/>
            <a:ext cx="129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和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2050920" y="256536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4859280" y="2565360"/>
            <a:ext cx="17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芳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971640" y="2997360"/>
            <a:ext cx="143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视、听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3924360" y="2997360"/>
            <a:ext cx="13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和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2411280" y="3429000"/>
            <a:ext cx="16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有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3780000" y="3429000"/>
            <a:ext cx="165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有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5003640" y="3429000"/>
            <a:ext cx="14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有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6588000" y="3357720"/>
            <a:ext cx="14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有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971640" y="0"/>
            <a:ext cx="194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987640" y="393372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贬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1908000" y="0"/>
            <a:ext cx="18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524720" y="393372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褒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3708360" y="436572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拟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042920" y="4797360"/>
            <a:ext cx="172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欢快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8028000" y="522936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比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1692360" y="5734080"/>
            <a:ext cx="115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拟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4572000" y="573408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和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6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6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6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6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6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6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6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6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6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6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6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6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6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6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6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6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6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6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6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6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6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6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6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6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6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6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6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6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6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6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6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6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6" name="" descr=""/>
          <p:cNvPicPr/>
          <p:nvPr/>
        </p:nvPicPr>
        <p:blipFill>
          <a:blip r:embed="rId1"/>
          <a:srcRect l="0" t="0" r="2379" b="7811"/>
          <a:stretch/>
        </p:blipFill>
        <p:spPr>
          <a:xfrm>
            <a:off x="6156360" y="333360"/>
            <a:ext cx="2652840" cy="3816360"/>
          </a:xfrm>
          <a:prstGeom prst="rect">
            <a:avLst/>
          </a:prstGeom>
          <a:ln w="0">
            <a:noFill/>
          </a:ln>
        </p:spPr>
      </p:pic>
      <p:sp>
        <p:nvSpPr>
          <p:cNvPr id="487" name=""/>
          <p:cNvSpPr/>
          <p:nvPr/>
        </p:nvSpPr>
        <p:spPr>
          <a:xfrm>
            <a:off x="324000" y="404640"/>
            <a:ext cx="5486400" cy="20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朱自清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(189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948)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字佩弦，江苏省扬州市人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散文家、诗人、学者、民主战士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有诗文集《踪迹》、散文集《欧游杂记》、《背影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以及一些文艺论著，收在《朱自清文集》里 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散文代表作有：《绿》、《春》、《荷塘月色》、《背影》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8" name="" descr=""/>
          <p:cNvPicPr/>
          <p:nvPr/>
        </p:nvPicPr>
        <p:blipFill>
          <a:blip r:embed="rId2"/>
          <a:stretch/>
        </p:blipFill>
        <p:spPr>
          <a:xfrm>
            <a:off x="0" y="4365720"/>
            <a:ext cx="9144000" cy="24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"/>
          <p:cNvSpPr/>
          <p:nvPr/>
        </p:nvSpPr>
        <p:spPr>
          <a:xfrm>
            <a:off x="1676520" y="6858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1752480" y="106668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1600200" y="838080"/>
            <a:ext cx="5638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99"/>
                </a:solidFill>
                <a:latin typeface="Tahoma"/>
              </a:rPr>
              <a:t>春风图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990720" y="1828800"/>
            <a:ext cx="723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春风有什么样的</a:t>
            </a:r>
            <a:r>
              <a:rPr b="1" lang="zh-CN" sz="2800" spc="-1" strike="noStrike">
                <a:solidFill>
                  <a:srgbClr val="cc0066"/>
                </a:solidFill>
                <a:latin typeface="Tahoma"/>
              </a:rPr>
              <a:t>特点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990720" y="251460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春风图作者怎样描绘？抒发了什么样的</a:t>
            </a:r>
            <a:r>
              <a:rPr b="1" lang="zh-CN" sz="2800" spc="-1" strike="noStrike">
                <a:solidFill>
                  <a:srgbClr val="cc0066"/>
                </a:solidFill>
                <a:latin typeface="Tahoma"/>
              </a:rPr>
              <a:t>感情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990720" y="3200400"/>
            <a:ext cx="868680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本段是怎样</a:t>
            </a:r>
            <a:r>
              <a:rPr b="1" lang="zh-CN" sz="2800" spc="-1" strike="noStrike">
                <a:solidFill>
                  <a:srgbClr val="cc0066"/>
                </a:solidFill>
                <a:latin typeface="Tahoma"/>
              </a:rPr>
              <a:t>写景抒情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的？　　　　　　　　　　（运用了什么样的修辞手法？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990720" y="4495680"/>
            <a:ext cx="777240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用圈点评注的方法，</a:t>
            </a:r>
            <a:r>
              <a:rPr b="1" lang="zh-CN" sz="2800" spc="-1" strike="noStrike">
                <a:solidFill>
                  <a:srgbClr val="cc0066"/>
                </a:solidFill>
                <a:latin typeface="Tahoma"/>
              </a:rPr>
              <a:t>圈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出你觉得用得很</a:t>
            </a:r>
            <a:r>
              <a:rPr b="1" lang="zh-CN" sz="2800" spc="-1" strike="noStrike">
                <a:solidFill>
                  <a:srgbClr val="cc0066"/>
                </a:solidFill>
                <a:latin typeface="Tahoma"/>
              </a:rPr>
              <a:t>有表现力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的</a:t>
            </a:r>
            <a:r>
              <a:rPr b="1" lang="zh-CN" sz="2800" spc="-1" strike="noStrike">
                <a:solidFill>
                  <a:srgbClr val="cc0066"/>
                </a:solidFill>
                <a:latin typeface="Tahoma"/>
              </a:rPr>
              <a:t>词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，并体会其作用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5334120" y="1905120"/>
            <a:ext cx="304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0b500"/>
                </a:solidFill>
                <a:latin typeface="Tahoma"/>
              </a:rPr>
              <a:t>和煦、清新、和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"/>
          <p:cNvSpPr/>
          <p:nvPr/>
        </p:nvSpPr>
        <p:spPr>
          <a:xfrm>
            <a:off x="615240" y="-28440"/>
            <a:ext cx="789840" cy="21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99"/>
                </a:solidFill>
                <a:latin typeface="Times New Roman"/>
                <a:ea typeface="楷体_GB2312"/>
              </a:rPr>
              <a:t>春风图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1403280" y="692280"/>
            <a:ext cx="693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作者从哪些感觉来写春风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228600" y="2209680"/>
            <a:ext cx="4876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像母亲的手抚摸着你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0" y="3352680"/>
            <a:ext cx="543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泥土的气息、草味、花香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250920" y="4508640"/>
            <a:ext cx="4647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鸟鸣、流水、短笛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5486400" y="2209680"/>
            <a:ext cx="2666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触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5486400" y="3352680"/>
            <a:ext cx="2666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嗅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5486400" y="4419720"/>
            <a:ext cx="2362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听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3348000" y="5486400"/>
            <a:ext cx="41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运用各种感觉描绘春风柔、暖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5791320" y="5105520"/>
            <a:ext cx="457200" cy="304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5" name="" descr=""/>
          <p:cNvPicPr/>
          <p:nvPr/>
        </p:nvPicPr>
        <p:blipFill>
          <a:blip r:embed="rId1"/>
          <a:stretch/>
        </p:blipFill>
        <p:spPr>
          <a:xfrm>
            <a:off x="7196040" y="0"/>
            <a:ext cx="1947960" cy="6858000"/>
          </a:xfrm>
          <a:prstGeom prst="rect">
            <a:avLst/>
          </a:prstGeom>
          <a:ln w="0">
            <a:noFill/>
          </a:ln>
        </p:spPr>
      </p:pic>
      <p:sp>
        <p:nvSpPr>
          <p:cNvPr id="696" name=""/>
          <p:cNvSpPr/>
          <p:nvPr/>
        </p:nvSpPr>
        <p:spPr>
          <a:xfrm>
            <a:off x="7524720" y="6093000"/>
            <a:ext cx="504720" cy="404640"/>
          </a:xfrm>
          <a:custGeom>
            <a:avLst/>
            <a:gdLst>
              <a:gd name="textAreaLeft" fmla="*/ 25920 w 504720"/>
              <a:gd name="textAreaRight" fmla="*/ 478800 w 50472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6938" h="21600">
                <a:moveTo>
                  <a:pt x="0" y="0"/>
                </a:moveTo>
                <a:lnTo>
                  <a:pt x="26938" y="0"/>
                </a:lnTo>
                <a:lnTo>
                  <a:pt x="26938" y="21600"/>
                </a:lnTo>
                <a:lnTo>
                  <a:pt x="0" y="21600"/>
                </a:lnTo>
                <a:close/>
              </a:path>
              <a:path fill="lightenLess" w="26938" h="21600">
                <a:moveTo>
                  <a:pt x="0" y="0"/>
                </a:moveTo>
                <a:lnTo>
                  <a:pt x="26938" y="0"/>
                </a:lnTo>
                <a:lnTo>
                  <a:pt x="25538" y="1400"/>
                </a:lnTo>
                <a:lnTo>
                  <a:pt x="1400" y="1400"/>
                </a:lnTo>
                <a:close/>
              </a:path>
              <a:path fill="darken" w="26938" h="21600">
                <a:moveTo>
                  <a:pt x="26938" y="0"/>
                </a:moveTo>
                <a:lnTo>
                  <a:pt x="26938" y="21600"/>
                </a:lnTo>
                <a:lnTo>
                  <a:pt x="25538" y="20200"/>
                </a:lnTo>
                <a:lnTo>
                  <a:pt x="25538" y="1400"/>
                </a:lnTo>
                <a:close/>
              </a:path>
              <a:path fill="darkenLess" w="26938" h="21600">
                <a:moveTo>
                  <a:pt x="269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38" y="20200"/>
                </a:lnTo>
                <a:close/>
              </a:path>
              <a:path fill="lighten" w="269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38" h="21600">
                <a:moveTo>
                  <a:pt x="6462" y="10800"/>
                </a:moveTo>
                <a:lnTo>
                  <a:pt x="20475" y="3794"/>
                </a:lnTo>
                <a:lnTo>
                  <a:pt x="2047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6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6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9" dur="500"/>
                                        <p:tgtEl>
                                          <p:spTgt spid="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4" dur="500"/>
                                        <p:tgtEl>
                                          <p:spTgt spid="6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9" dur="500"/>
                                        <p:tgtEl>
                                          <p:spTgt spid="6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4" dur="500"/>
                                        <p:tgtEl>
                                          <p:spTgt spid="6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9" dur="500"/>
                                        <p:tgtEl>
                                          <p:spTgt spid="6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0" dur="500"/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"/>
          <p:cNvSpPr/>
          <p:nvPr/>
        </p:nvSpPr>
        <p:spPr>
          <a:xfrm>
            <a:off x="611280" y="2894040"/>
            <a:ext cx="7775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背阴的岩下，积雪不管立春、春分，只管冷森森的没有开化的意思。是潭、是溪、是井台还是泉边，凡带水的地方，都坚持着冰块、冰砚、冰溜、冰碴……一夜之间，春风来了。忽然从塞外的苍苍草原，莽莽沙漠，滚滚而来。从关外扑过山头，漫过山梁，插山沟，灌山口，呜呜吹号，哄哄呼啸，飞沙走石，扑在窗户上，撒拉撒拉，扑在人脸上，如无数的针扎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　轰的一声，是哪里的河冰开裂吧。嘎的一声，是碗口大的病枝刮折了。有天夜间，我住的石头房子的木头架子，格拉拉格拉拉响起来，晃起来。仿佛冬眠惊醒，伸懒腰，动弹胳臂腿，浑身关节挨个儿格拉拉格拉拉地松动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>
            <a:off x="7526520" y="1798920"/>
            <a:ext cx="1185840" cy="351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990099"/>
                </a:solidFill>
                <a:latin typeface="Times New Roman"/>
                <a:ea typeface="华文新魏"/>
              </a:rPr>
              <a:t>春雨图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1" name="" descr=""/>
          <p:cNvPicPr/>
          <p:nvPr/>
        </p:nvPicPr>
        <p:blipFill>
          <a:blip r:embed="rId1">
            <a:lum bright="-1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2" name=""/>
          <p:cNvSpPr txBox="1"/>
          <p:nvPr/>
        </p:nvSpPr>
        <p:spPr>
          <a:xfrm rot="5400000">
            <a:off x="620280" y="971640"/>
            <a:ext cx="1828800" cy="8380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华文行楷"/>
              </a:rPr>
              <a:t>春雨图</a:t>
            </a:r>
            <a:endParaRPr b="0" lang="en-US" sz="2400" spc="1" strike="noStrike">
              <a:ln w="0">
                <a:noFill/>
              </a:ln>
              <a:solidFill>
                <a:srgbClr val="ff6600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703" name=""/>
          <p:cNvSpPr/>
          <p:nvPr/>
        </p:nvSpPr>
        <p:spPr>
          <a:xfrm>
            <a:off x="2340000" y="404640"/>
            <a:ext cx="716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作者抓住了春雨什么特点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380880" y="3429000"/>
            <a:ext cx="6135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像牛毛、像花针、像细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6705720" y="3429000"/>
            <a:ext cx="2209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细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468360" y="4508640"/>
            <a:ext cx="3962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……</a:t>
            </a:r>
            <a:r>
              <a:rPr b="1" lang="zh-CN" sz="40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一层薄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6781680" y="4419720"/>
            <a:ext cx="2057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轻盈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380880" y="2362320"/>
            <a:ext cx="4496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一下就是三两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6629400" y="2346480"/>
            <a:ext cx="13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绵长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5715000" y="5638680"/>
            <a:ext cx="3657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黑体"/>
              </a:rPr>
              <a:t>抓住特点描绘春雨的“润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7162920" y="5257800"/>
            <a:ext cx="45720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8532720" y="6453360"/>
            <a:ext cx="611280" cy="404640"/>
          </a:xfrm>
          <a:custGeom>
            <a:avLst/>
            <a:gdLst>
              <a:gd name="textAreaLeft" fmla="*/ 25920 w 611280"/>
              <a:gd name="textAreaRight" fmla="*/ 585360 w 61128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2621" h="21600">
                <a:moveTo>
                  <a:pt x="0" y="0"/>
                </a:moveTo>
                <a:lnTo>
                  <a:pt x="32621" y="0"/>
                </a:lnTo>
                <a:lnTo>
                  <a:pt x="32621" y="21600"/>
                </a:lnTo>
                <a:lnTo>
                  <a:pt x="0" y="21600"/>
                </a:lnTo>
                <a:close/>
              </a:path>
              <a:path fill="lightenLess" w="32621" h="21600">
                <a:moveTo>
                  <a:pt x="0" y="0"/>
                </a:moveTo>
                <a:lnTo>
                  <a:pt x="32621" y="0"/>
                </a:lnTo>
                <a:lnTo>
                  <a:pt x="31221" y="1400"/>
                </a:lnTo>
                <a:lnTo>
                  <a:pt x="1400" y="1400"/>
                </a:lnTo>
                <a:close/>
              </a:path>
              <a:path fill="darken" w="32621" h="21600">
                <a:moveTo>
                  <a:pt x="32621" y="0"/>
                </a:moveTo>
                <a:lnTo>
                  <a:pt x="32621" y="21600"/>
                </a:lnTo>
                <a:lnTo>
                  <a:pt x="31221" y="20200"/>
                </a:lnTo>
                <a:lnTo>
                  <a:pt x="31221" y="1400"/>
                </a:lnTo>
                <a:close/>
              </a:path>
              <a:path fill="darkenLess" w="32621" h="21600">
                <a:moveTo>
                  <a:pt x="326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221" y="20200"/>
                </a:lnTo>
                <a:close/>
              </a:path>
              <a:path fill="lighten" w="326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621" h="21600">
                <a:moveTo>
                  <a:pt x="9304" y="10800"/>
                </a:moveTo>
                <a:lnTo>
                  <a:pt x="23317" y="3794"/>
                </a:lnTo>
                <a:lnTo>
                  <a:pt x="23317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1" dur="indefinite" restart="never" nodeType="tmRoot">
          <p:childTnLst>
            <p:seq>
              <p:cTn id="572" dur="indefinite" nodeType="mainSeq">
                <p:childTnLst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77" dur="500"/>
                                        <p:tgtEl>
                                          <p:spTgt spid="7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2" dur="500"/>
                                        <p:tgtEl>
                                          <p:spTgt spid="7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87" dur="500"/>
                                        <p:tgtEl>
                                          <p:spTgt spid="7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2" dur="500"/>
                                        <p:tgtEl>
                                          <p:spTgt spid="7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97" dur="500"/>
                                        <p:tgtEl>
                                          <p:spTgt spid="7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2" dur="500"/>
                                        <p:tgtEl>
                                          <p:spTgt spid="7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3" dur="500"/>
                                        <p:tgtEl>
                                          <p:spTgt spid="7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5" name=""/>
          <p:cNvSpPr/>
          <p:nvPr/>
        </p:nvSpPr>
        <p:spPr>
          <a:xfrm>
            <a:off x="0" y="981000"/>
            <a:ext cx="88930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在“像牛毛，像花针，像细丝”一句中，这三个比喻都是在描绘</a:t>
            </a:r>
            <a:r>
              <a:rPr b="0" lang="zh-CN" sz="3200" spc="-1" strike="noStrike" u="sng">
                <a:solidFill>
                  <a:srgbClr val="0000ff"/>
                </a:solidFill>
                <a:uFillTx/>
                <a:latin typeface="Arial"/>
              </a:rPr>
              <a:t>       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的春雨，不同的是：“像牛毛”，侧重写春雨的</a:t>
            </a:r>
            <a:r>
              <a:rPr b="0" lang="zh-CN" sz="3200" spc="-1" strike="noStrike" u="sng">
                <a:solidFill>
                  <a:srgbClr val="0000ff"/>
                </a:solidFill>
                <a:uFillTx/>
                <a:latin typeface="Arial"/>
              </a:rPr>
              <a:t>       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，“像花针”，侧重写春雨的</a:t>
            </a:r>
            <a:r>
              <a:rPr b="0" lang="zh-CN" sz="3200" spc="-1" strike="noStrike" u="sng">
                <a:solidFill>
                  <a:srgbClr val="0000ff"/>
                </a:solidFill>
                <a:uFillTx/>
                <a:latin typeface="Arial"/>
              </a:rPr>
              <a:t>       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，“像细丝”侧重写春雨的</a:t>
            </a:r>
            <a:r>
              <a:rPr b="0" lang="zh-CN" sz="3200" spc="-1" strike="noStrike" u="sng">
                <a:solidFill>
                  <a:srgbClr val="0000ff"/>
                </a:solidFill>
                <a:uFillTx/>
                <a:latin typeface="Arial"/>
              </a:rPr>
              <a:t>       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“……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密密地斜织着”一个“斜”字，不仅在写春雨，而且也写了</a:t>
            </a:r>
            <a:r>
              <a:rPr b="0" lang="zh-CN" sz="3200" spc="-1" strike="noStrike" u="sng">
                <a:solidFill>
                  <a:srgbClr val="0000ff"/>
                </a:solidFill>
                <a:uFillTx/>
                <a:latin typeface="Arial"/>
              </a:rPr>
              <a:t>       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。“织”字是承上句像</a:t>
            </a:r>
            <a:r>
              <a:rPr b="0" lang="zh-CN" sz="3200" spc="-1" strike="noStrike" u="sng">
                <a:solidFill>
                  <a:srgbClr val="0000ff"/>
                </a:solidFill>
                <a:uFillTx/>
                <a:latin typeface="Arial"/>
              </a:rPr>
              <a:t>                   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0" lang="zh-CN" sz="3200" spc="-1" strike="noStrike" u="sng">
                <a:solidFill>
                  <a:srgbClr val="0000ff"/>
                </a:solidFill>
                <a:uFillTx/>
                <a:latin typeface="Arial"/>
              </a:rPr>
              <a:t>             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                的比喻，准确表现了春雨的动态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3348000" y="14842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1258920" y="242100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闪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6443640" y="249228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绵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3780000" y="198900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细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3132000" y="4076640"/>
            <a:ext cx="12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7451640" y="414972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0000"/>
                </a:solidFill>
                <a:uFillTx/>
                <a:latin typeface="Arial"/>
                <a:ea typeface="黑体"/>
              </a:rPr>
              <a:t>花针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"/>
          <p:cNvSpPr/>
          <p:nvPr/>
        </p:nvSpPr>
        <p:spPr>
          <a:xfrm>
            <a:off x="1676520" y="6858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1752480" y="106668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1600200" y="838080"/>
            <a:ext cx="5638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99"/>
                </a:solidFill>
                <a:latin typeface="Tahoma"/>
              </a:rPr>
              <a:t>迎春图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990720" y="1828800"/>
            <a:ext cx="723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、作者怎样描绘迎春图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990720" y="2514600"/>
            <a:ext cx="79246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、迎春图有什么样的特点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　　抒发了什么样的感情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914400" y="3657600"/>
            <a:ext cx="777240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3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、用圈点评注的方法，圈出你觉得用得很有表现力的词，并体会其作用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1371600" y="502920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5638680" y="2514600"/>
            <a:ext cx="304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0b500"/>
                </a:solidFill>
                <a:latin typeface="Tahoma"/>
              </a:rPr>
              <a:t>春早人勤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0" name="" descr=""/>
          <p:cNvPicPr/>
          <p:nvPr/>
        </p:nvPicPr>
        <p:blipFill>
          <a:blip r:embed="rId1"/>
          <a:stretch/>
        </p:blipFill>
        <p:spPr>
          <a:xfrm>
            <a:off x="0" y="5013360"/>
            <a:ext cx="9144000" cy="18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2" dur="indefinite" restart="never" nodeType="tmRoot">
          <p:childTnLst>
            <p:seq>
              <p:cTn id="653" dur="indefinite" nodeType="mainSeq">
                <p:childTnLst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1" name="" descr=""/>
          <p:cNvPicPr/>
          <p:nvPr/>
        </p:nvPicPr>
        <p:blipFill>
          <a:blip r:embed="rId1"/>
          <a:stretch/>
        </p:blipFill>
        <p:spPr>
          <a:xfrm>
            <a:off x="0" y="1341360"/>
            <a:ext cx="9144000" cy="5516640"/>
          </a:xfrm>
          <a:prstGeom prst="rect">
            <a:avLst/>
          </a:prstGeom>
          <a:ln w="0">
            <a:noFill/>
          </a:ln>
        </p:spPr>
      </p:pic>
      <p:pic>
        <p:nvPicPr>
          <p:cNvPr id="732" name="" descr=""/>
          <p:cNvPicPr/>
          <p:nvPr/>
        </p:nvPicPr>
        <p:blipFill>
          <a:blip r:embed="rId2"/>
          <a:stretch/>
        </p:blipFill>
        <p:spPr>
          <a:xfrm>
            <a:off x="324000" y="404640"/>
            <a:ext cx="1361880" cy="905040"/>
          </a:xfrm>
          <a:prstGeom prst="rect">
            <a:avLst/>
          </a:prstGeom>
          <a:ln w="0">
            <a:noFill/>
          </a:ln>
        </p:spPr>
      </p:pic>
      <p:sp>
        <p:nvSpPr>
          <p:cNvPr id="733" name=""/>
          <p:cNvSpPr/>
          <p:nvPr/>
        </p:nvSpPr>
        <p:spPr>
          <a:xfrm>
            <a:off x="611280" y="1341360"/>
            <a:ext cx="8137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Arial"/>
              </a:rPr>
              <a:t>自由朗读课文</a:t>
            </a:r>
            <a:r>
              <a:rPr b="0" lang="zh-CN" sz="48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0" lang="zh-CN" sz="4800" spc="-1" strike="noStrike">
                <a:solidFill>
                  <a:srgbClr val="ff0000"/>
                </a:solidFill>
                <a:latin typeface="Arial"/>
              </a:rPr>
              <a:t>说一说作者抒发了怎样的感受</a:t>
            </a:r>
            <a:r>
              <a:rPr b="0" lang="zh-CN" sz="48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4" name="" descr=""/>
          <p:cNvPicPr/>
          <p:nvPr/>
        </p:nvPicPr>
        <p:blipFill>
          <a:blip r:embed="rId1"/>
          <a:stretch/>
        </p:blipFill>
        <p:spPr>
          <a:xfrm>
            <a:off x="0" y="981000"/>
            <a:ext cx="9144000" cy="5877000"/>
          </a:xfrm>
          <a:prstGeom prst="rect">
            <a:avLst/>
          </a:prstGeom>
          <a:ln w="0">
            <a:noFill/>
          </a:ln>
        </p:spPr>
      </p:pic>
      <p:pic>
        <p:nvPicPr>
          <p:cNvPr id="73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362240" cy="905040"/>
          </a:xfrm>
          <a:prstGeom prst="rect">
            <a:avLst/>
          </a:prstGeom>
          <a:ln w="0">
            <a:noFill/>
          </a:ln>
        </p:spPr>
      </p:pic>
      <p:sp>
        <p:nvSpPr>
          <p:cNvPr id="736" name=""/>
          <p:cNvSpPr/>
          <p:nvPr/>
        </p:nvSpPr>
        <p:spPr>
          <a:xfrm>
            <a:off x="250920" y="981000"/>
            <a:ext cx="8137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Arial"/>
              </a:rPr>
              <a:t>说说这种感受在课文的哪部分表现得最为直接</a:t>
            </a:r>
            <a:r>
              <a:rPr b="0" lang="zh-CN" sz="48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8" name=""/>
          <p:cNvSpPr/>
          <p:nvPr/>
        </p:nvSpPr>
        <p:spPr>
          <a:xfrm>
            <a:off x="2849760" y="1483920"/>
            <a:ext cx="429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99"/>
                </a:solidFill>
                <a:latin typeface="华文中宋"/>
                <a:ea typeface="华文中宋"/>
              </a:rPr>
              <a:t>天像刚落地的娃娃，从头到脚都是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471760" y="2133360"/>
            <a:ext cx="637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99"/>
                </a:solidFill>
                <a:latin typeface="华文中宋"/>
                <a:ea typeface="华文中宋"/>
              </a:rPr>
              <a:t>新的，它生长着。 </a:t>
            </a:r>
            <a:br>
              <a:rPr sz="3600"/>
            </a:br>
            <a:r>
              <a:rPr b="1" lang="zh-CN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　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2271240" y="2786760"/>
            <a:ext cx="5036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中宋"/>
                <a:ea typeface="华文中宋"/>
              </a:rPr>
              <a:t>   </a:t>
            </a:r>
            <a:r>
              <a:rPr b="1" lang="zh-CN" sz="3600" spc="-1" strike="noStrike">
                <a:solidFill>
                  <a:srgbClr val="cc0099"/>
                </a:solidFill>
                <a:latin typeface="华文中宋"/>
                <a:ea typeface="华文中宋"/>
              </a:rPr>
              <a:t>春天像小姑娘，花枝招展的，笑着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1143000" y="2924280"/>
            <a:ext cx="1095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中宋"/>
                <a:ea typeface="华文中宋"/>
              </a:rPr>
              <a:t>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99"/>
                </a:solidFill>
                <a:latin typeface="华文中宋"/>
                <a:ea typeface="华文中宋"/>
              </a:rPr>
              <a:t>走着。</a:t>
            </a:r>
            <a:r>
              <a:rPr b="0" lang="zh-CN" sz="3600" spc="-1" strike="noStrike">
                <a:solidFill>
                  <a:srgbClr val="cc0099"/>
                </a:solidFill>
                <a:latin typeface="华文中宋"/>
                <a:ea typeface="华文中宋"/>
              </a:rPr>
              <a:t> </a:t>
            </a:r>
            <a:br>
              <a:rPr sz="3600"/>
            </a:br>
            <a:r>
              <a:rPr b="0" lang="zh-CN" sz="36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　　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2195640" y="4012200"/>
            <a:ext cx="476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中宋"/>
                <a:ea typeface="华文中宋"/>
              </a:rPr>
              <a:t>   </a:t>
            </a:r>
            <a:r>
              <a:rPr b="1" lang="zh-CN" sz="3600" spc="-1" strike="noStrike">
                <a:solidFill>
                  <a:srgbClr val="cc0099"/>
                </a:solidFill>
                <a:latin typeface="华文中宋"/>
                <a:ea typeface="华文中宋"/>
              </a:rPr>
              <a:t>春天像健壮的青年，有铁一般的胳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3691080" y="4723920"/>
            <a:ext cx="46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99"/>
                </a:solidFill>
                <a:latin typeface="华文中宋"/>
                <a:ea typeface="华文中宋"/>
              </a:rPr>
              <a:t>膊和腰脚，领着我们上前去。</a:t>
            </a:r>
            <a:r>
              <a:rPr b="1" lang="zh-CN" sz="1800" spc="-1" strike="noStrike">
                <a:solidFill>
                  <a:srgbClr val="cc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660" dur="indefinite" restart="never" nodeType="tmRoot">
          <p:childTnLst>
            <p:seq>
              <p:cTn id="661" dur="indefinite" nodeType="mainSeq">
                <p:childTnLst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6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71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76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81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86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91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9" name="" descr=""/>
          <p:cNvPicPr/>
          <p:nvPr/>
        </p:nvPicPr>
        <p:blipFill>
          <a:blip r:embed="rId1"/>
          <a:stretch/>
        </p:blipFill>
        <p:spPr>
          <a:xfrm>
            <a:off x="0" y="3286080"/>
            <a:ext cx="9144000" cy="3571920"/>
          </a:xfrm>
          <a:prstGeom prst="rect">
            <a:avLst/>
          </a:prstGeom>
          <a:ln w="0">
            <a:noFill/>
          </a:ln>
        </p:spPr>
      </p:pic>
      <p:sp>
        <p:nvSpPr>
          <p:cNvPr id="490" name=""/>
          <p:cNvSpPr/>
          <p:nvPr/>
        </p:nvSpPr>
        <p:spPr>
          <a:xfrm>
            <a:off x="611280" y="260280"/>
            <a:ext cx="784836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导入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描写春天的诗词  春天的电视画面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学生眼中的春天（北京的、外地的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"/>
          <p:cNvSpPr/>
          <p:nvPr/>
        </p:nvSpPr>
        <p:spPr>
          <a:xfrm>
            <a:off x="900000" y="1413000"/>
            <a:ext cx="7848720" cy="4014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像刚落地的娃娃，突出了“新”，突出了“生长”让人振奋，给人希望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像小姑娘，突出了“美”，突出了“活”，给人以美的感受，让人充满活力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像健壮的青年，突出了“壮”，突出了“力”，春天使人健壮，给人以奋进的力量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2" dur="indefinite" restart="never" nodeType="tmRoot">
          <p:childTnLst>
            <p:seq>
              <p:cTn id="693" dur="indefinite" nodeType="mainSeq">
                <p:childTnLst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98" dur="20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6" name="PlaceHolder 1"/>
          <p:cNvSpPr>
            <a:spLocks noGrp="1"/>
          </p:cNvSpPr>
          <p:nvPr>
            <p:ph/>
          </p:nvPr>
        </p:nvSpPr>
        <p:spPr>
          <a:xfrm>
            <a:off x="971280" y="1773360"/>
            <a:ext cx="799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00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黑体"/>
                <a:ea typeface="黑体"/>
              </a:rPr>
              <a:t>1</a:t>
            </a:r>
            <a:r>
              <a:rPr b="1" lang="zh-CN" sz="4000" spc="-1" strike="noStrike">
                <a:solidFill>
                  <a:srgbClr val="ff00ff"/>
                </a:solidFill>
                <a:latin typeface="黑体"/>
                <a:ea typeface="黑体"/>
              </a:rPr>
              <a:t>、这三自然段运用了什么修辞手法？突出了春天的什么特点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00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黑体"/>
                <a:ea typeface="黑体"/>
              </a:rPr>
              <a:t>2</a:t>
            </a:r>
            <a:r>
              <a:rPr b="1" lang="zh-CN" sz="4000" spc="-1" strike="noStrike">
                <a:solidFill>
                  <a:srgbClr val="ff00ff"/>
                </a:solidFill>
                <a:latin typeface="黑体"/>
                <a:ea typeface="黑体"/>
              </a:rPr>
              <a:t>、这三个自然段的顺序能颠倒吗？为什么？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2050920" y="3068640"/>
            <a:ext cx="648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cc33"/>
                </a:solidFill>
                <a:latin typeface="Arial"/>
                <a:ea typeface="黑体"/>
              </a:rPr>
              <a:t>（比喻，突出了春天的新、美、力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1187280" y="5229360"/>
            <a:ext cx="748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cc33"/>
                </a:solidFill>
                <a:latin typeface="Arial"/>
                <a:ea typeface="黑体"/>
              </a:rPr>
              <a:t>不能</a:t>
            </a:r>
            <a:r>
              <a:rPr b="1" lang="zh-CN" sz="3200" spc="-1" strike="noStrike">
                <a:solidFill>
                  <a:srgbClr val="33cc33"/>
                </a:solidFill>
                <a:latin typeface="Arial"/>
                <a:ea typeface="黑体"/>
              </a:rPr>
              <a:t>,</a:t>
            </a:r>
            <a:r>
              <a:rPr b="1" lang="zh-CN" sz="3200" spc="-1" strike="noStrike">
                <a:solidFill>
                  <a:srgbClr val="33cc33"/>
                </a:solidFill>
                <a:latin typeface="Arial"/>
                <a:ea typeface="黑体"/>
              </a:rPr>
              <a:t>因为这三个比喻句从“娃娃”写到“小姑娘”又写到“青年”，形象地表现了春天的成长过程，排列有序，不能调换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9" dur="indefinite" restart="never" nodeType="tmRoot">
          <p:childTnLst>
            <p:seq>
              <p:cTn id="700" dur="indefinite" nodeType="mainSeq">
                <p:childTnLst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0" name=""/>
          <p:cNvSpPr/>
          <p:nvPr/>
        </p:nvSpPr>
        <p:spPr>
          <a:xfrm>
            <a:off x="1905120" y="1066680"/>
            <a:ext cx="57909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《春》是一篇诗意盎然的抒情散文。春本来是自然界的一个季节，本文用了多种修辞手法赋予它以感情和生命。作者抓住春的主要特征，虚实结合，动静结合，从不同角度，用极富表现力的语言，描绘了大地回春、万物复苏、生机勃发、草木争荣的景象，抒写出作者热爱春天、憧憬未来的欣喜心情。这是一首抒情诗，一幅风景画，更是一曲春的赞歌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713" dur="indefinite" restart="never" nodeType="tmRoot">
          <p:childTnLst>
            <p:seq>
              <p:cTn id="714" dur="indefinite" nodeType="mainSeq">
                <p:childTnLst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50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50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"/>
          <p:cNvSpPr/>
          <p:nvPr/>
        </p:nvSpPr>
        <p:spPr>
          <a:xfrm>
            <a:off x="1828800" y="2438280"/>
            <a:ext cx="57913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3" name=""/>
          <p:cNvSpPr/>
          <p:nvPr/>
        </p:nvSpPr>
        <p:spPr>
          <a:xfrm>
            <a:off x="1619280" y="2349360"/>
            <a:ext cx="6400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6600"/>
                </a:solidFill>
                <a:latin typeface="Times New Roman"/>
                <a:ea typeface="隶书"/>
              </a:rPr>
              <a:t>    </a:t>
            </a:r>
            <a:r>
              <a:rPr b="1" lang="zh-CN" sz="4800" spc="-1" strike="noStrike">
                <a:solidFill>
                  <a:srgbClr val="ff6600"/>
                </a:solidFill>
                <a:latin typeface="Times New Roman"/>
                <a:ea typeface="隶书"/>
              </a:rPr>
              <a:t>请找出含有“春”字的诗、词、歌曲、成语、俗语、谚语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0" y="-5280120"/>
            <a:ext cx="7632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725" dur="indefinite" restart="never" nodeType="tmRoot">
          <p:childTnLst>
            <p:seq>
              <p:cTn id="726" dur="indefinite" nodeType="mainSeq">
                <p:childTnLst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35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540072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9a0000"/>
                </a:solidFill>
                <a:latin typeface="Verdana"/>
                <a:ea typeface="华文新魏"/>
              </a:rPr>
              <a:t>描绘春天的诗句</a:t>
            </a:r>
            <a:r>
              <a:rPr b="0" lang="zh-CN" sz="4800" spc="-1" strike="noStrike">
                <a:solidFill>
                  <a:srgbClr val="003366"/>
                </a:solidFill>
                <a:latin typeface="Verdana"/>
                <a:ea typeface="华文新魏"/>
              </a:rPr>
              <a:t>：</a:t>
            </a:r>
            <a:endParaRPr b="0" lang="en-US" sz="4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91440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春眠不觉晓，处处闻啼鸟。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          ——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唐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孟浩然《春晓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好雨知时节，当春乃发生。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         ——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唐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杜甫《春夜喜雨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迟日江山丽，春风花草香。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            ——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唐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杜甫《绝句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日出江花红胜火，春来江水绿如蓝。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         ——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唐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白居易《忆江南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736" dur="indefinite" restart="never" nodeType="tmRoot">
          <p:childTnLst>
            <p:seq>
              <p:cTn id="737" dur="indefinite" nodeType="mainSeq">
                <p:childTnLst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2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5472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  <a:ea typeface="华文新魏"/>
              </a:rPr>
              <a:t>描绘春天的诗句：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0" y="609120"/>
            <a:ext cx="91440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等闲识得东风面，万紫千红总是春。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            ——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宋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朱熹《春日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春色满园关不住，一支红杏出墙来。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       ——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宋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叶绍翁《游园不值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春风又绿江南岸，明月何时照我还。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       ——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宋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王安石《泊船瓜洲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竹外桃花三两枝，春江水暖鸭先知。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 ——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宋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苏轼《惠崇春江晚景二首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747" dur="indefinite" restart="never" nodeType="tmRoot">
          <p:childTnLst>
            <p:seq>
              <p:cTn id="748" dur="indefinite" nodeType="mainSeq">
                <p:childTnLst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39640" y="342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0099"/>
                </a:solidFill>
                <a:latin typeface="Arial"/>
              </a:rPr>
              <a:t>听录音朗读课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11280" y="4594320"/>
            <a:ext cx="8229600" cy="22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注意字词读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掌握朗读的节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学会有感情的朗读课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3571920"/>
          </a:xfrm>
          <a:prstGeom prst="rect">
            <a:avLst/>
          </a:prstGeom>
          <a:ln w="0">
            <a:noFill/>
          </a:ln>
        </p:spPr>
      </p:pic>
      <p:pic>
        <p:nvPicPr>
          <p:cNvPr id="494" name="" descr=""/>
          <p:cNvPicPr/>
          <p:nvPr/>
        </p:nvPicPr>
        <p:blipFill>
          <a:blip r:embed="rId2"/>
          <a:stretch/>
        </p:blipFill>
        <p:spPr>
          <a:xfrm>
            <a:off x="7885080" y="5734080"/>
            <a:ext cx="866880" cy="863640"/>
          </a:xfrm>
          <a:prstGeom prst="rect">
            <a:avLst/>
          </a:prstGeom>
          <a:ln w="0">
            <a:noFill/>
          </a:ln>
        </p:spPr>
      </p:pic>
      <p:sp>
        <p:nvSpPr>
          <p:cNvPr id="495" name=""/>
          <p:cNvSpPr/>
          <p:nvPr/>
        </p:nvSpPr>
        <p:spPr>
          <a:xfrm>
            <a:off x="8423280" y="621036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424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黑体"/>
              </a:rPr>
              <a:t>读准字音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228240" y="914400"/>
            <a:ext cx="18716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宋体"/>
              </a:rPr>
              <a:t>朗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宋体"/>
              </a:rPr>
              <a:t>钻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宋体"/>
              </a:rPr>
              <a:t>嫩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绿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宋体"/>
              </a:rPr>
              <a:t>眨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眼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宋体"/>
              </a:rPr>
              <a:t>酝酿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643280" y="914400"/>
            <a:ext cx="2808360" cy="48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鸟</a:t>
            </a:r>
            <a:r>
              <a:rPr b="1" lang="zh-CN" sz="4800" spc="-1" strike="noStrike">
                <a:solidFill>
                  <a:srgbClr val="ff3300"/>
                </a:solidFill>
                <a:latin typeface="宋体"/>
              </a:rPr>
              <a:t>巢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宋体"/>
              </a:rPr>
              <a:t>宛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转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宋体"/>
              </a:rPr>
              <a:t>蓑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衣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稀</a:t>
            </a:r>
            <a:r>
              <a:rPr b="1" lang="zh-CN" sz="4800" spc="-1" strike="noStrike">
                <a:solidFill>
                  <a:srgbClr val="ff3300"/>
                </a:solidFill>
                <a:latin typeface="宋体"/>
              </a:rPr>
              <a:t>疏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抖</a:t>
            </a:r>
            <a:r>
              <a:rPr b="1" lang="zh-CN" sz="4800" spc="-1" strike="noStrike">
                <a:solidFill>
                  <a:srgbClr val="ff3300"/>
                </a:solidFill>
                <a:latin typeface="宋体"/>
              </a:rPr>
              <a:t>擞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精神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1600200" y="914400"/>
            <a:ext cx="309708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8000"/>
                </a:solidFill>
                <a:latin typeface="宋体"/>
              </a:rPr>
              <a:t>lǎn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8000"/>
                </a:solidFill>
                <a:latin typeface="宋体"/>
              </a:rPr>
              <a:t>zuā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8000"/>
                </a:solidFill>
                <a:latin typeface="宋体"/>
              </a:rPr>
              <a:t>nè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8000"/>
                </a:solidFill>
                <a:latin typeface="宋体"/>
              </a:rPr>
              <a:t>zhǎ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8000"/>
                </a:solidFill>
                <a:latin typeface="宋体"/>
              </a:rPr>
              <a:t>yùn niàn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164360" y="914400"/>
            <a:ext cx="1584360" cy="48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8000"/>
                </a:solidFill>
                <a:latin typeface="宋体"/>
              </a:rPr>
              <a:t>chá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8000"/>
                </a:solidFill>
                <a:latin typeface="宋体"/>
              </a:rPr>
              <a:t>wǎ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8000"/>
                </a:solidFill>
                <a:latin typeface="宋体"/>
              </a:rPr>
              <a:t>suō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8000"/>
                </a:solidFill>
                <a:latin typeface="宋体"/>
              </a:rPr>
              <a:t>shū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8000"/>
                </a:solidFill>
                <a:latin typeface="宋体"/>
              </a:rPr>
              <a:t>sǒu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1022400" y="40464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ahoma"/>
              </a:rPr>
              <a:t>积累运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1187280" y="1484280"/>
            <a:ext cx="72723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朗润    酝酿   卖弄    宛转   嘹亮    黄晕   烘托    静默   舒活筋骨      欣欣然   繁花嫩叶  呼朋引伴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抖擞精神  花枝招展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3" name="" descr=""/>
          <p:cNvPicPr/>
          <p:nvPr/>
        </p:nvPicPr>
        <p:blipFill>
          <a:blip r:embed="rId1"/>
          <a:stretch/>
        </p:blipFill>
        <p:spPr>
          <a:xfrm>
            <a:off x="0" y="4149720"/>
            <a:ext cx="9144000" cy="27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/>
          <p:nvPr/>
        </p:nvSpPr>
        <p:spPr>
          <a:xfrm>
            <a:off x="762120" y="914400"/>
            <a:ext cx="1981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Arial"/>
                <a:ea typeface="黑体"/>
              </a:rPr>
              <a:t>：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2576520" y="1849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 flipH="1">
            <a:off x="183600" y="534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1585800" y="27637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611280" y="260280"/>
            <a:ext cx="7827840" cy="20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一、整体感知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1.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想一想、议一议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黑体"/>
              </a:rPr>
              <a:t>，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本文写了哪个地域的春天，依次写了哪些内容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9" name="" descr=""/>
          <p:cNvPicPr/>
          <p:nvPr/>
        </p:nvPicPr>
        <p:blipFill>
          <a:blip r:embed="rId1"/>
          <a:stretch/>
        </p:blipFill>
        <p:spPr>
          <a:xfrm>
            <a:off x="0" y="4149720"/>
            <a:ext cx="9144000" cy="2708280"/>
          </a:xfrm>
          <a:prstGeom prst="rect">
            <a:avLst/>
          </a:prstGeom>
          <a:ln w="0">
            <a:noFill/>
          </a:ln>
        </p:spPr>
      </p:pic>
    </p:spTree>
  </p:cSld>
  <p:transition>
    <p:blinds dir="horz"/>
    <p:sndAc>
      <p:stSnd>
        <p:snd r:embed="rId2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0" name="" descr=""/>
          <p:cNvPicPr/>
          <p:nvPr/>
        </p:nvPicPr>
        <p:blipFill>
          <a:blip r:embed="rId1"/>
          <a:stretch/>
        </p:blipFill>
        <p:spPr>
          <a:xfrm>
            <a:off x="0" y="4149720"/>
            <a:ext cx="9144000" cy="2708280"/>
          </a:xfrm>
          <a:prstGeom prst="rect">
            <a:avLst/>
          </a:prstGeom>
          <a:ln w="0">
            <a:noFill/>
          </a:ln>
        </p:spPr>
      </p:pic>
      <p:sp>
        <p:nvSpPr>
          <p:cNvPr id="511" name=""/>
          <p:cNvSpPr/>
          <p:nvPr/>
        </p:nvSpPr>
        <p:spPr>
          <a:xfrm>
            <a:off x="826920" y="620640"/>
            <a:ext cx="741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2.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画出文章的结构图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900000" y="1844640"/>
            <a:ext cx="727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认真读文章，用准确的词语概括每部分内容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27T12:45:00Z</dcterms:created>
  <dc:creator>陈晶</dc:creator>
  <dc:description>新语文  http://www.xinyuwen.com
初中语文免费资源网</dc:description>
  <dc:language>en-US</dc:language>
  <cp:lastModifiedBy>xy</cp:lastModifiedBy>
  <dcterms:modified xsi:type="dcterms:W3CDTF">2010-11-11T06:51:43Z</dcterms:modified>
  <cp:revision>223</cp:revision>
  <dc:subject/>
  <dc:title>春</dc:title>
</cp:coreProperties>
</file>